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4089-94B2-4E9C-974D-5D84D7E82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5D4E-E949-4C03-A6CB-8E9856CB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255-5367-47B3-8EA8-C233BB4B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4EB-1468-41DA-AA7F-0B1A5254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3CF5-63DC-4DD0-811C-E89A8DAB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57F-7F78-4637-A087-2C3C3362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74C0-4A78-41CE-B76D-15B8186E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5FA-4BA7-4B3B-A227-557851A1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B95-7478-4CDB-B7CE-0946C646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DBE-8142-4C3E-B7AF-5014C5F5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B9E5-7E28-48B6-8250-BB4B642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2076-ADAC-48E0-8850-239BBC15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3208-FBB4-4017-B5CC-37CE4628C8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684360" y="189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Thème 2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L’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2060"/>
                </a:solidFill>
                <a:uFillTx/>
                <a:latin typeface="Calibri"/>
              </a:rPr>
              <a:t>Domaine d’étude</a:t>
            </a: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 : Eau et éner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1042920" y="162864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oduction de Dihydrogène a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611280" y="2276640"/>
            <a:ext cx="792000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Lien avec le programme spécifique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Calibri"/>
              </a:rPr>
              <a:t>Agir :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éfis du XXIème sièc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Économiser les ressources et respecter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1547640" y="3860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njeux énergét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uvelles chaînes énergétiqu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547640" y="4581360"/>
            <a:ext cx="741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traire et exploiter des informations sur des réalisations ou des projets scientifiques répondant à des problématiques énergétiques contemporaines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"/>
          <p:cNvSpPr/>
          <p:nvPr/>
        </p:nvSpPr>
        <p:spPr>
          <a:xfrm>
            <a:off x="250920" y="1705320"/>
            <a:ext cx="817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gard critique sur le résulta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Le document 3 indique que le coût de production du kilogramme de dihydrogène, par des électrolyseurs industriels peut varier entre 5 et 30 euros/kg selon la taille de l’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En obtenant un prix de 21,90€ /Kg , notre résultat est en accord avec ces valeurs.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oneTexte 3"/>
          <p:cNvSpPr/>
          <p:nvPr/>
        </p:nvSpPr>
        <p:spPr>
          <a:xfrm>
            <a:off x="826920" y="33336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000000"/>
                </a:solidFill>
                <a:uFillTx/>
                <a:latin typeface="Calibri"/>
              </a:rPr>
              <a:t>Problématique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"/>
          <p:cNvSpPr/>
          <p:nvPr/>
        </p:nvSpPr>
        <p:spPr>
          <a:xfrm>
            <a:off x="179280" y="2060640"/>
            <a:ext cx="8785440" cy="20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Quel serait le coût de produc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d’un Kilogramme de Dihydrogène (H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u Laborato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mage 3" descr="location-de-voiture-hydrogene-pile-a-combustible.jpg"/>
          <p:cNvPicPr/>
          <p:nvPr/>
        </p:nvPicPr>
        <p:blipFill>
          <a:blip r:embed="rId1"/>
          <a:stretch/>
        </p:blipFill>
        <p:spPr>
          <a:xfrm>
            <a:off x="3780000" y="3573360"/>
            <a:ext cx="51354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oneTexte 3"/>
          <p:cNvSpPr/>
          <p:nvPr/>
        </p:nvSpPr>
        <p:spPr>
          <a:xfrm>
            <a:off x="826920" y="333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c00000"/>
                </a:solidFill>
                <a:uFillTx/>
                <a:latin typeface="Calibri"/>
              </a:rPr>
              <a:t>Matériel Mis à disposi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Image 4" descr="IMG_20180330_112356.jpg"/>
          <p:cNvPicPr/>
          <p:nvPr/>
        </p:nvPicPr>
        <p:blipFill>
          <a:blip r:embed="rId1"/>
          <a:stretch/>
        </p:blipFill>
        <p:spPr>
          <a:xfrm>
            <a:off x="179280" y="1052640"/>
            <a:ext cx="2160720" cy="2700360"/>
          </a:xfrm>
          <a:prstGeom prst="rect">
            <a:avLst/>
          </a:prstGeom>
          <a:ln w="0">
            <a:noFill/>
          </a:ln>
        </p:spPr>
      </p:pic>
      <p:pic>
        <p:nvPicPr>
          <p:cNvPr id="51" name="Image 5" descr="IMG_20180330_112514.jpg"/>
          <p:cNvPicPr/>
          <p:nvPr/>
        </p:nvPicPr>
        <p:blipFill>
          <a:blip r:embed="rId2"/>
          <a:stretch/>
        </p:blipFill>
        <p:spPr>
          <a:xfrm>
            <a:off x="179280" y="4005360"/>
            <a:ext cx="216072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ZoneTexte 6"/>
          <p:cNvSpPr/>
          <p:nvPr/>
        </p:nvSpPr>
        <p:spPr>
          <a:xfrm>
            <a:off x="2700360" y="9810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upport avec 2 pi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7"/>
          <p:cNvSpPr/>
          <p:nvPr/>
        </p:nvSpPr>
        <p:spPr>
          <a:xfrm>
            <a:off x="2700360" y="1484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 tubes gradués de 25mL ou 30mL (ou le cas échéant 2 éprouvettes gradué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8"/>
          <p:cNvSpPr/>
          <p:nvPr/>
        </p:nvSpPr>
        <p:spPr>
          <a:xfrm>
            <a:off x="2700360" y="2205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250mL d’une solution de Sulfate de Sodium à 0,5 mol*L</a:t>
            </a:r>
            <a:r>
              <a:rPr b="0" lang="fr-FR" sz="18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9"/>
          <p:cNvSpPr/>
          <p:nvPr/>
        </p:nvSpPr>
        <p:spPr>
          <a:xfrm>
            <a:off x="2700360" y="278136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électrolyseur (de préférence à électrode de plat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0"/>
          <p:cNvSpPr/>
          <p:nvPr/>
        </p:nvSpPr>
        <p:spPr>
          <a:xfrm>
            <a:off x="2700360" y="400536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alimentation continue 30V/5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1"/>
          <p:cNvSpPr/>
          <p:nvPr/>
        </p:nvSpPr>
        <p:spPr>
          <a:xfrm>
            <a:off x="2700360" y="4508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ampèremètre et un voltmèt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2"/>
          <p:cNvSpPr/>
          <p:nvPr/>
        </p:nvSpPr>
        <p:spPr>
          <a:xfrm>
            <a:off x="2700360" y="5013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chronomètre (ou appli chronomètre de Smartph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ZoneTexte 13"/>
          <p:cNvSpPr/>
          <p:nvPr/>
        </p:nvSpPr>
        <p:spPr>
          <a:xfrm>
            <a:off x="2700360" y="6021360"/>
            <a:ext cx="50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es fils de 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ZoneTexte 14"/>
          <p:cNvSpPr/>
          <p:nvPr/>
        </p:nvSpPr>
        <p:spPr>
          <a:xfrm>
            <a:off x="2700360" y="551664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e platine pour montag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ZoneTexte 13"/>
          <p:cNvSpPr/>
          <p:nvPr/>
        </p:nvSpPr>
        <p:spPr>
          <a:xfrm>
            <a:off x="2700360" y="35002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peu de B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611280" y="264672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1)Ecrire les demi-équations des réactions se produisant à l’anode et à la cath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  <a:ea typeface="Calibri"/>
              </a:rPr>
              <a:t>En déduire l’équation se produisant dans l’électrolyseu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ZoneTexte 5"/>
          <p:cNvSpPr/>
          <p:nvPr/>
        </p:nvSpPr>
        <p:spPr>
          <a:xfrm>
            <a:off x="1403280" y="134136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Question préliminair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79280" y="1643400"/>
            <a:ext cx="8569440" cy="33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quation de la ré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An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xydation de l’eau  2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 =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(g)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4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    couple  O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athode 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réduction de l’eau  2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+ 2 e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-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 =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Arial"/>
                <a:ea typeface="Calibri"/>
              </a:rPr>
              <a:t>(g)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couple H</a:t>
            </a:r>
            <a:r>
              <a:rPr b="0" lang="fr-FR" sz="2000" spc="-1" strike="noStrike" baseline="30000">
                <a:solidFill>
                  <a:srgbClr val="000000"/>
                </a:solidFill>
                <a:latin typeface="Arial"/>
                <a:ea typeface="Calibri"/>
              </a:rPr>
              <a:t>+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Calibri"/>
              </a:rPr>
              <a:t> / H</a:t>
            </a:r>
            <a:r>
              <a:rPr b="0" lang="fr-FR" sz="2000" spc="-1" strike="noStrike" baseline="-30000">
                <a:solidFill>
                  <a:srgbClr val="000000"/>
                </a:solidFill>
                <a:latin typeface="Arial"/>
                <a:ea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ila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 H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0  = O</a:t>
            </a:r>
            <a:r>
              <a:rPr b="1" lang="en-US" sz="2000" spc="-1" strike="noStrike" baseline="-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(g)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+ 2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Image 3" descr="IMG_20180329_161353_resized_20180330_104729456.jpg"/>
          <p:cNvPicPr/>
          <p:nvPr/>
        </p:nvPicPr>
        <p:blipFill>
          <a:blip r:embed="rId1"/>
          <a:srcRect l="0" t="0" r="0" b="12371"/>
          <a:stretch/>
        </p:blipFill>
        <p:spPr>
          <a:xfrm>
            <a:off x="755640" y="1413000"/>
            <a:ext cx="7704000" cy="5229000"/>
          </a:xfrm>
          <a:prstGeom prst="rect">
            <a:avLst/>
          </a:prstGeom>
          <a:ln w="0">
            <a:noFill/>
          </a:ln>
        </p:spPr>
      </p:pic>
      <p:sp>
        <p:nvSpPr>
          <p:cNvPr id="66" name="ZoneTexte 4"/>
          <p:cNvSpPr/>
          <p:nvPr/>
        </p:nvSpPr>
        <p:spPr>
          <a:xfrm>
            <a:off x="1476360" y="62064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Montage à effectu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324000" y="585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2) Comparer les volumes de gaz produits aux électrodes, sont-ils en accord avec l’équation 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alibri"/>
              </a:rPr>
              <a:t>Pourquoi 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rcRect l="10155" t="5560" r="26058" b="14643"/>
          <a:stretch/>
        </p:blipFill>
        <p:spPr>
          <a:xfrm>
            <a:off x="250920" y="2421000"/>
            <a:ext cx="3889440" cy="40323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4643280" y="2753280"/>
            <a:ext cx="417672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xpérimentalement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hydrogène produit VH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= 2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Volume de dioxygène produit V0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 =12,3 m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000000"/>
                </a:solidFill>
                <a:uFillTx/>
                <a:latin typeface="Calibri"/>
              </a:rPr>
              <a:t>Vidéo de l’expérience 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vidéo electrolyse~1.avi" descr=""/>
          <p:cNvPicPr/>
          <p:nvPr/>
        </p:nvPicPr>
        <p:blipFill>
          <a:blip r:embed="rId1"/>
          <a:stretch/>
        </p:blipFill>
        <p:spPr>
          <a:xfrm>
            <a:off x="495360" y="1576440"/>
            <a:ext cx="815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 1" descr=""/>
          <p:cNvPicPr/>
          <p:nvPr/>
        </p:nvPicPr>
        <p:blipFill>
          <a:blip r:embed="rId1"/>
          <a:stretch/>
        </p:blipFill>
        <p:spPr>
          <a:xfrm>
            <a:off x="755640" y="2565360"/>
            <a:ext cx="3816360" cy="1150920"/>
          </a:xfrm>
          <a:prstGeom prst="rect">
            <a:avLst/>
          </a:prstGeom>
          <a:ln w="0">
            <a:noFill/>
          </a:ln>
        </p:spPr>
      </p:pic>
      <p:sp>
        <p:nvSpPr>
          <p:cNvPr id="73" name="Zone de texte 3"/>
          <p:cNvSpPr/>
          <p:nvPr/>
        </p:nvSpPr>
        <p:spPr>
          <a:xfrm>
            <a:off x="-47520" y="604800"/>
            <a:ext cx="27432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50920" y="162360"/>
            <a:ext cx="8640720" cy="23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olume de dihydrogène produit VH</a:t>
            </a:r>
            <a:r>
              <a:rPr b="0" lang="fr-FR" sz="1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= 25 mL pour une durée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U = 7,3 Volts        I = 0,30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 = 24 °C  soit 297 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La pression de 1010 h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Résulta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Masse de dihydrogène produite ( masse de 25 mL de H</a:t>
            </a:r>
            <a:r>
              <a:rPr b="0" lang="fr-FR" sz="1600" spc="-1" strike="noStrike" baseline="-30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45720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108000" y="3752280"/>
            <a:ext cx="8748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m = 2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*101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2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/ (8,314*297) *2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2,0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6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lors de l’expérienc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Wél = U*I*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t = 7,3* 0,30*10/60 = 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0,365.10</a:t>
            </a:r>
            <a:r>
              <a:rPr b="1" lang="fr-FR" sz="1600" spc="-1" strike="noStrike" u="sng" baseline="30000">
                <a:solidFill>
                  <a:srgbClr val="000000"/>
                </a:solidFill>
                <a:uFillTx/>
                <a:latin typeface="Calibri"/>
                <a:ea typeface="Calibri"/>
              </a:rPr>
              <a:t>-3</a:t>
            </a:r>
            <a:r>
              <a:rPr b="1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EDF facture aux particuliers 12 centimes le kW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Donc une dépense de : 0,365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*12= 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t d’euro pour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kg d’hydrogè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Coût de l’énergie électrique par kg de dihydrogène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centime d’euros           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               </a:t>
            </a:r>
            <a:r>
              <a:rPr b="0" lang="fr-FR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                      1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 =4,38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3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/ 2,0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-6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 = 2,19.10</a:t>
            </a:r>
            <a:r>
              <a:rPr b="0" lang="fr-FR" sz="16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3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centimes soit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Calibri"/>
              </a:rPr>
              <a:t>21,9 euros/ k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3T12:43:44Z</dcterms:created>
  <dc:creator>winadmin</dc:creator>
  <dc:description/>
  <dc:language>en-US</dc:language>
  <cp:lastModifiedBy>winadmin</cp:lastModifiedBy>
  <dcterms:modified xsi:type="dcterms:W3CDTF">2018-04-11T06:41:11Z</dcterms:modified>
  <cp:revision>17</cp:revision>
  <dc:subject/>
  <dc:title>Diapositive 1</dc:title>
</cp:coreProperties>
</file>