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644C-0D08-4F9B-B891-8CBDA628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E871-653E-44C0-A867-A3D578F3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5FEA-EFBD-4CA7-80DF-A4D58E47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C9E7-9609-4A4A-9D00-AF2D17CA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E3B6-457A-44AC-A208-E61CB92F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BCF5-2604-4CE6-9635-C20E2BBA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2821-6D4A-4142-BA27-290AF00F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D0AA-61D4-453B-A4CB-F46B5566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CA73-4299-47CC-9AD9-872F33F7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17C0-C984-4B8A-A767-27DB4493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7BE9-F18B-450F-9FD8-1C4B9001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6683-61CC-4899-8F3E-D2C130C9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C2F3-465C-418F-BB54-72DBD0637E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Thème 2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Eau et é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1042920" y="1628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Production de Dihydrogène a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11280" y="2276640"/>
            <a:ext cx="7920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Agir :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47640" y="386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njeux énergét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uvelles chaînes énergétiqu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547640" y="458136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traire et exploiter des informations sur des réalisations ou des projets scientifiques répondant à des problématiques énergétiques contemporain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250920" y="1705320"/>
            <a:ext cx="817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Regard critique sur le résult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 document 3 indique que le coût de production du kilogramme de dihydrogène, par des électrolyseurs industriels peut varier entre 5 et 30 euros/kg selon la taille de l’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En obtenant un prix de 21,90€ /Kg , notre résultat est en accord avec ces valeurs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oneTexte 3"/>
          <p:cNvSpPr/>
          <p:nvPr/>
        </p:nvSpPr>
        <p:spPr>
          <a:xfrm>
            <a:off x="826920" y="33336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alibri"/>
              </a:rPr>
              <a:t>Problématique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4"/>
          <p:cNvSpPr/>
          <p:nvPr/>
        </p:nvSpPr>
        <p:spPr>
          <a:xfrm>
            <a:off x="179280" y="2060640"/>
            <a:ext cx="878544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uel serait le coût de produ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d’un Kilogramme de Dihydrogène (H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u Laborato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 3" descr="location-de-voiture-hydrogene-pile-a-combustible.jpg"/>
          <p:cNvPicPr/>
          <p:nvPr/>
        </p:nvPicPr>
        <p:blipFill>
          <a:blip r:embed="rId1"/>
          <a:stretch/>
        </p:blipFill>
        <p:spPr>
          <a:xfrm>
            <a:off x="3780000" y="3573360"/>
            <a:ext cx="5135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oneTexte 3"/>
          <p:cNvSpPr/>
          <p:nvPr/>
        </p:nvSpPr>
        <p:spPr>
          <a:xfrm>
            <a:off x="826920" y="333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00000"/>
                </a:solidFill>
                <a:uFillTx/>
                <a:latin typeface="Calibri"/>
              </a:rPr>
              <a:t>Matériel Mis à dispositio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4" descr="IMG_20180330_112356.jpg"/>
          <p:cNvPicPr/>
          <p:nvPr/>
        </p:nvPicPr>
        <p:blipFill>
          <a:blip r:embed="rId1"/>
          <a:stretch/>
        </p:blipFill>
        <p:spPr>
          <a:xfrm>
            <a:off x="179280" y="1052640"/>
            <a:ext cx="2160720" cy="2700360"/>
          </a:xfrm>
          <a:prstGeom prst="rect">
            <a:avLst/>
          </a:prstGeom>
          <a:ln w="0">
            <a:noFill/>
          </a:ln>
        </p:spPr>
      </p:pic>
      <p:pic>
        <p:nvPicPr>
          <p:cNvPr id="51" name="Image 5" descr="IMG_20180330_112514.jpg"/>
          <p:cNvPicPr/>
          <p:nvPr/>
        </p:nvPicPr>
        <p:blipFill>
          <a:blip r:embed="rId2"/>
          <a:stretch/>
        </p:blipFill>
        <p:spPr>
          <a:xfrm>
            <a:off x="179280" y="4005360"/>
            <a:ext cx="216072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2700360" y="98100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pport avec 2 pi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700360" y="148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 tubes gradués de 25mL ou 30mL (ou le cas échéant 2 éprouvettes gradué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8"/>
          <p:cNvSpPr/>
          <p:nvPr/>
        </p:nvSpPr>
        <p:spPr>
          <a:xfrm>
            <a:off x="2700360" y="2205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50mL d’une solution de Sulfate de Sodium à 0,5 mol*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9"/>
          <p:cNvSpPr/>
          <p:nvPr/>
        </p:nvSpPr>
        <p:spPr>
          <a:xfrm>
            <a:off x="2700360" y="2781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électrolyseur (de préférence à électrode de plat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0"/>
          <p:cNvSpPr/>
          <p:nvPr/>
        </p:nvSpPr>
        <p:spPr>
          <a:xfrm>
            <a:off x="2700360" y="40053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alimentation continue 30V/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1"/>
          <p:cNvSpPr/>
          <p:nvPr/>
        </p:nvSpPr>
        <p:spPr>
          <a:xfrm>
            <a:off x="2700360" y="450864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ampèremètre et un voltmè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2"/>
          <p:cNvSpPr/>
          <p:nvPr/>
        </p:nvSpPr>
        <p:spPr>
          <a:xfrm>
            <a:off x="2700360" y="5013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chronomètre (ou appli chronomètre de Smartph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3"/>
          <p:cNvSpPr/>
          <p:nvPr/>
        </p:nvSpPr>
        <p:spPr>
          <a:xfrm>
            <a:off x="2700360" y="60213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s fils de 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4"/>
          <p:cNvSpPr/>
          <p:nvPr/>
        </p:nvSpPr>
        <p:spPr>
          <a:xfrm>
            <a:off x="2700360" y="551664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platine pour montage 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3"/>
          <p:cNvSpPr/>
          <p:nvPr/>
        </p:nvSpPr>
        <p:spPr>
          <a:xfrm>
            <a:off x="2700360" y="350028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peu de B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611280" y="264672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1)Ecrire les demi-équations des réactions se produisant à l’anode et à la cath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En déduire l’équation se produisant dans l’électrolyse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5"/>
          <p:cNvSpPr/>
          <p:nvPr/>
        </p:nvSpPr>
        <p:spPr>
          <a:xfrm>
            <a:off x="1403280" y="1341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Question préliminaire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79280" y="1643400"/>
            <a:ext cx="8569440" cy="33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quation de la ré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An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xydation de l’eau  2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 =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(g)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couple 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ath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réduction de l’eau  2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2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=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(g)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ouple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Bil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 H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0  = O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(g)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+ 2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alibri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3" descr="IMG_20180329_161353_resized_20180330_104729456.jpg"/>
          <p:cNvPicPr/>
          <p:nvPr/>
        </p:nvPicPr>
        <p:blipFill>
          <a:blip r:embed="rId1"/>
          <a:srcRect l="0" t="0" r="0" b="12371"/>
          <a:stretch/>
        </p:blipFill>
        <p:spPr>
          <a:xfrm>
            <a:off x="755640" y="1413000"/>
            <a:ext cx="7704000" cy="5229000"/>
          </a:xfrm>
          <a:prstGeom prst="rect">
            <a:avLst/>
          </a:prstGeom>
          <a:ln w="0">
            <a:noFill/>
          </a:ln>
        </p:spPr>
      </p:pic>
      <p:sp>
        <p:nvSpPr>
          <p:cNvPr id="66" name="ZoneTexte 4"/>
          <p:cNvSpPr/>
          <p:nvPr/>
        </p:nvSpPr>
        <p:spPr>
          <a:xfrm>
            <a:off x="1476360" y="62064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Montage à effectu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24000" y="585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) Comparer les volumes de gaz produits aux électrodes, sont-ils en accord avec l’équation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Pourquoi ?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10155" t="5560" r="26058" b="14643"/>
          <a:stretch/>
        </p:blipFill>
        <p:spPr>
          <a:xfrm>
            <a:off x="250920" y="2421000"/>
            <a:ext cx="3889440" cy="4032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4643280" y="2753280"/>
            <a:ext cx="417672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xpérimentaleme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hydrogène produit V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= 2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oxygène produit V0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 =12,3 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"/>
              </a:rPr>
              <a:t>Vidéo de l’expérience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vidéo electrolyse~1.avi" descr=""/>
          <p:cNvPicPr/>
          <p:nvPr/>
        </p:nvPicPr>
        <p:blipFill>
          <a:blip r:embed="rId1"/>
          <a:stretch/>
        </p:blipFill>
        <p:spPr>
          <a:xfrm>
            <a:off x="495360" y="157644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3816360" cy="1150920"/>
          </a:xfrm>
          <a:prstGeom prst="rect">
            <a:avLst/>
          </a:prstGeom>
          <a:ln w="0">
            <a:noFill/>
          </a:ln>
        </p:spPr>
      </p:pic>
      <p:sp>
        <p:nvSpPr>
          <p:cNvPr id="73" name="Zone de texte 3"/>
          <p:cNvSpPr/>
          <p:nvPr/>
        </p:nvSpPr>
        <p:spPr>
          <a:xfrm>
            <a:off x="-47520" y="604800"/>
            <a:ext cx="27432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50920" y="162360"/>
            <a:ext cx="864072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Volume de dihydrogène produit VH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= 25 mL pour une durée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10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 = 7,3 Volts        I = 0,30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24 °C  soit 297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a pression de 1010 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sse de dihydrogène produite ( masse de 25 mL de H</a:t>
            </a:r>
            <a:r>
              <a:rPr b="0" lang="fr-FR" sz="16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08000" y="3752280"/>
            <a:ext cx="8748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m = 2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*101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/ (8,314*297) *2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2,0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6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lors de l’expérienc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Wél = U*I*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t = 7,3* 0,30*10/60 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0,365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3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EDF facture aux particuliers 12 centimes le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Donc une dépense de : 0,36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*12= 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t d’euro pour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kg d’hydrogè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par kg de dihydrogèn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entime d’euros           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              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1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=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/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= 2,19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entimes soi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21,9 euros/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12:43:44Z</dcterms:created>
  <dc:creator>winadmin</dc:creator>
  <dc:description/>
  <dc:language>en-US</dc:language>
  <cp:lastModifiedBy>winadmin</cp:lastModifiedBy>
  <dcterms:modified xsi:type="dcterms:W3CDTF">2018-04-11T06:41:11Z</dcterms:modified>
  <cp:revision>17</cp:revision>
  <dc:subject/>
  <dc:title>Diapositive 1</dc:title>
</cp:coreProperties>
</file>