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DDE29-12BA-48CB-B8AD-7EC15E53DE4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  <a:ea typeface="MS PGothic"/>
            </a:endParaRPr>
          </a:p>
        </p:txBody>
      </p:sp>
      <p:sp>
        <p:nvSpPr>
          <p:cNvPr id="1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07B90-8A95-4BE1-9326-FD4DA1B13B3D}" type="slidenum"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Espace réservé du pied de page 1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stage SPH_01.A  Octobre_Novembre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15844-55AB-45FE-A0B6-C780FC2889A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855FD-AFFF-439B-97A3-0A8E7BBFB02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D0FA6-1A17-4121-8AD2-A2134EF38BF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66441-7F55-49D5-BCEA-ABEB86BF14D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C957-27AC-4561-926A-A65510D21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9DB7-1171-41EC-AD33-72A48D241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8D49-D661-4092-8176-CB3659052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7426-C656-46BB-9165-05865EB57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4D50-74A5-4450-8460-09D68DDC9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F8BE-6A2B-4C41-B726-421470DC9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7346-9E5B-43FD-B534-F54B79BCD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5A3C-B860-47F8-88AB-7FD0CAFB3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1F1A-4676-4BAE-866C-B06933355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BDE6-B486-4A3D-BAB9-FC356DB4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1ECC-FA67-49E3-9C36-71BA28256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9437-D0FA-47FB-90CA-A9117654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2AFA5-7B6C-4EA4-816C-08A03603E6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7"/>
          <p:cNvSpPr/>
          <p:nvPr/>
        </p:nvSpPr>
        <p:spPr>
          <a:xfrm>
            <a:off x="611280" y="1628640"/>
            <a:ext cx="8137440" cy="201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ce6f2"/>
              </a:gs>
              <a:gs pos="100000">
                <a:srgbClr val="dce6f2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RESOLU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D’UN PROBLEME SCIENTIFIQU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A CARACTERE EXPERIM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395280" y="3357720"/>
            <a:ext cx="856944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     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20 février et 10 avril 2018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LYCEE DARCHICOURT - HENIN-BEAUM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ou LYCEE ROBESPIERRE AR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Image 1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439640" cy="1044720"/>
          </a:xfrm>
          <a:prstGeom prst="rect">
            <a:avLst/>
          </a:prstGeom>
          <a:ln w="0">
            <a:noFill/>
          </a:ln>
        </p:spPr>
      </p:pic>
      <p:pic>
        <p:nvPicPr>
          <p:cNvPr id="51" name="Image 2" descr=""/>
          <p:cNvPicPr/>
          <p:nvPr/>
        </p:nvPicPr>
        <p:blipFill>
          <a:blip r:embed="rId2"/>
          <a:stretch/>
        </p:blipFill>
        <p:spPr>
          <a:xfrm>
            <a:off x="5219640" y="214200"/>
            <a:ext cx="3826080" cy="849600"/>
          </a:xfrm>
          <a:prstGeom prst="rect">
            <a:avLst/>
          </a:prstGeom>
          <a:ln w="0">
            <a:noFill/>
          </a:ln>
        </p:spPr>
      </p:pic>
      <p:sp>
        <p:nvSpPr>
          <p:cNvPr id="52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250920" y="949680"/>
            <a:ext cx="856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70c0"/>
                </a:solidFill>
                <a:latin typeface="Calibri"/>
              </a:rPr>
              <a:t>3- </a:t>
            </a:r>
            <a:r>
              <a:rPr b="1" lang="fr-FR" sz="16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70c0"/>
                </a:solidFill>
                <a:latin typeface="Arial"/>
              </a:rPr>
              <a:t>Présentez le bilan des analyses effectuées (pH, TH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70c0"/>
                </a:solidFill>
                <a:latin typeface="Arial"/>
              </a:rPr>
              <a:t>Vous vous appuierez sur ces valeurs ainsi que sur le TAC afin d’indiquer le traitement quantitatif à conduire pour rendre l’eau adaptée à la baigna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Etape 3: </a:t>
            </a:r>
            <a:br>
              <a:rPr sz="2500"/>
            </a:b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ZoneTexte 1"/>
          <p:cNvSpPr/>
          <p:nvPr/>
        </p:nvSpPr>
        <p:spPr>
          <a:xfrm>
            <a:off x="480600" y="2022480"/>
            <a:ext cx="2300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Bilan des analy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pH= 8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TH= 21 °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TAC= 6°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ZoneTexte 2"/>
          <p:cNvSpPr/>
          <p:nvPr/>
        </p:nvSpPr>
        <p:spPr>
          <a:xfrm>
            <a:off x="212760" y="3767040"/>
            <a:ext cx="291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On utilise l’échelle de Taylor pour déterminer le pH idéal de l’eau de pis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tableau_Ph-b"/>
          <p:cNvPicPr/>
          <p:nvPr/>
        </p:nvPicPr>
        <p:blipFill>
          <a:blip r:embed="rId1"/>
          <a:stretch/>
        </p:blipFill>
        <p:spPr>
          <a:xfrm>
            <a:off x="3564000" y="1793880"/>
            <a:ext cx="4064040" cy="4562640"/>
          </a:xfrm>
          <a:prstGeom prst="rect">
            <a:avLst/>
          </a:prstGeom>
          <a:ln w="0">
            <a:noFill/>
          </a:ln>
        </p:spPr>
      </p:pic>
      <p:sp>
        <p:nvSpPr>
          <p:cNvPr id="99" name="Connecteur droit 4"/>
          <p:cNvSpPr/>
          <p:nvPr/>
        </p:nvSpPr>
        <p:spPr>
          <a:xfrm>
            <a:off x="4427640" y="3645000"/>
            <a:ext cx="2520720" cy="1224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Ellipse 8"/>
          <p:cNvSpPr/>
          <p:nvPr/>
        </p:nvSpPr>
        <p:spPr>
          <a:xfrm>
            <a:off x="5364000" y="4075200"/>
            <a:ext cx="655920" cy="361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ZoneTexte 9"/>
          <p:cNvSpPr/>
          <p:nvPr/>
        </p:nvSpPr>
        <p:spPr>
          <a:xfrm>
            <a:off x="212760" y="5200560"/>
            <a:ext cx="320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Le pH idéal est de 7,8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Le pH actuel est trop élev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250920" y="949680"/>
            <a:ext cx="856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70c0"/>
                </a:solidFill>
                <a:latin typeface="Calibri"/>
              </a:rPr>
              <a:t>3- </a:t>
            </a:r>
            <a:r>
              <a:rPr b="1" lang="fr-FR" sz="16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70c0"/>
                </a:solidFill>
                <a:latin typeface="Arial"/>
              </a:rPr>
              <a:t>Présentez le bilan des analyses effectuées (pH, TH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70c0"/>
                </a:solidFill>
                <a:latin typeface="Arial"/>
              </a:rPr>
              <a:t>Vous vous appuierez sur ces valeurs ainsi que sur le TAC afin d’indiquer le traitement quantitatif à conduire pour rendre l’eau adaptée à la baigna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Etape 3: </a:t>
            </a:r>
            <a:br>
              <a:rPr sz="2500"/>
            </a:b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oneTexte 3"/>
          <p:cNvSpPr/>
          <p:nvPr/>
        </p:nvSpPr>
        <p:spPr>
          <a:xfrm>
            <a:off x="693720" y="1836720"/>
            <a:ext cx="72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Le document 4 nous renseigne sur le traitement quantitatif à cond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042920" y="2654280"/>
          <a:ext cx="6697800" cy="2405160"/>
        </p:xfrm>
        <a:graphic>
          <a:graphicData uri="http://schemas.openxmlformats.org/drawingml/2006/table">
            <a:tbl>
              <a:tblPr/>
              <a:tblGrid>
                <a:gridCol w="1011240"/>
                <a:gridCol w="517680"/>
                <a:gridCol w="515880"/>
                <a:gridCol w="517320"/>
                <a:gridCol w="516240"/>
                <a:gridCol w="517320"/>
                <a:gridCol w="517680"/>
                <a:gridCol w="515880"/>
                <a:gridCol w="517680"/>
                <a:gridCol w="515880"/>
                <a:gridCol w="517320"/>
                <a:gridCol w="517680"/>
              </a:tblGrid>
              <a:tr h="21096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H souhait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pH idéa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11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H mesuré (Votre pH actue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1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0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9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0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0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0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9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0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9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08" name="Ellipse 7"/>
          <p:cNvSpPr/>
          <p:nvPr/>
        </p:nvSpPr>
        <p:spPr>
          <a:xfrm>
            <a:off x="2124000" y="3284640"/>
            <a:ext cx="432000" cy="215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ZoneTexte 10"/>
          <p:cNvSpPr/>
          <p:nvPr/>
        </p:nvSpPr>
        <p:spPr>
          <a:xfrm>
            <a:off x="759960" y="2314440"/>
            <a:ext cx="76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Quantité de « pH moins » à verser dans la piscine (en g.m</a:t>
            </a:r>
            <a:r>
              <a:rPr b="0" lang="fr-FR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3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, grammes par mètre cube d’eau)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ZoneTexte 11"/>
          <p:cNvSpPr/>
          <p:nvPr/>
        </p:nvSpPr>
        <p:spPr>
          <a:xfrm>
            <a:off x="567000" y="5153040"/>
            <a:ext cx="68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Il va falloir ajouter 9,0 g de « pH moins », par mètre cube d’eau de pisc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ZoneTexte 12"/>
          <p:cNvSpPr/>
          <p:nvPr/>
        </p:nvSpPr>
        <p:spPr>
          <a:xfrm>
            <a:off x="1101240" y="5505480"/>
            <a:ext cx="65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Volume de la piscine: (largeur à mesurer) 10x25X2,5 = 625 m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oneTexte 13"/>
          <p:cNvSpPr/>
          <p:nvPr/>
        </p:nvSpPr>
        <p:spPr>
          <a:xfrm>
            <a:off x="2563560" y="5952960"/>
            <a:ext cx="36583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oit: 625x9 = 5 625 g de « pH moins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Connecteur droit avec flèche 15"/>
          <p:cNvCxnSpPr/>
          <p:nvPr/>
        </p:nvCxnSpPr>
        <p:spPr>
          <a:xfrm>
            <a:off x="817200" y="3357360"/>
            <a:ext cx="51516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14" name="Connecteur droit avec flèche 20"/>
          <p:cNvCxnSpPr/>
          <p:nvPr/>
        </p:nvCxnSpPr>
        <p:spPr>
          <a:xfrm>
            <a:off x="2339640" y="2622240"/>
            <a:ext cx="1080" cy="3546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250920" y="177120"/>
            <a:ext cx="856908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Etape 3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70c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70c0"/>
                </a:solidFill>
                <a:latin typeface="Calibri"/>
              </a:rPr>
              <a:t>Apporter un regard critique à votre résult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250920" y="3253680"/>
            <a:ext cx="86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oneTexte 1"/>
          <p:cNvSpPr/>
          <p:nvPr/>
        </p:nvSpPr>
        <p:spPr>
          <a:xfrm>
            <a:off x="1332000" y="2708280"/>
            <a:ext cx="64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La quantité de « pH moins » trouvée peut paraître importa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Dans la pratique elle ne serait pas mise brutalement mais par ajout successifs sur plusieurs jours avec un contrôle journalier du p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(En particulier pour ne pas dérégler le TAC comme indiqué dans le document 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Image 3" descr=""/>
          <p:cNvPicPr/>
          <p:nvPr/>
        </p:nvPicPr>
        <p:blipFill>
          <a:blip r:embed="rId1"/>
          <a:stretch/>
        </p:blipFill>
        <p:spPr>
          <a:xfrm>
            <a:off x="1866960" y="1560600"/>
            <a:ext cx="551340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"/>
          <p:cNvSpPr/>
          <p:nvPr/>
        </p:nvSpPr>
        <p:spPr>
          <a:xfrm>
            <a:off x="684360" y="18900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Thème 1</a:t>
            </a:r>
            <a:r>
              <a:rPr b="1" lang="fr-FR" sz="2800" spc="-1" strike="noStrike">
                <a:solidFill>
                  <a:srgbClr val="002060"/>
                </a:solidFill>
                <a:latin typeface="Arial"/>
                <a:ea typeface="Arial"/>
              </a:rPr>
              <a:t> : L’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Domaine d’étude</a:t>
            </a:r>
            <a:r>
              <a:rPr b="1" lang="fr-FR" sz="2800" spc="-1" strike="noStrike">
                <a:solidFill>
                  <a:srgbClr val="002060"/>
                </a:solidFill>
                <a:latin typeface="Arial"/>
                <a:ea typeface="Arial"/>
              </a:rPr>
              <a:t> : Eau et res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11280" y="1341360"/>
          <a:ext cx="8208720" cy="1656000"/>
        </p:xfrm>
        <a:graphic>
          <a:graphicData uri="http://schemas.openxmlformats.org/drawingml/2006/table">
            <a:tbl>
              <a:tblPr/>
              <a:tblGrid>
                <a:gridCol w="2711520"/>
                <a:gridCol w="5497200"/>
              </a:tblGrid>
              <a:tr h="393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ine d’étu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s-cl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2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u et res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production d’eau potable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itement des eaux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ressources minérales et organiques des océans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hydrates de ga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684360" y="3508200"/>
            <a:ext cx="7920000" cy="30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17375e"/>
                </a:solidFill>
                <a:uFillTx/>
                <a:latin typeface="Arial"/>
              </a:rPr>
              <a:t>Lien avec le programme spécifique 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Agir : 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Défis du XXIème sièc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Économiser les ressources et respecter l’environ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Contrôle de la qualité par dosag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Dosage par titrage direct; repérage de l’équivalence par utilisation d’un indicateur de fin de réac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17375e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17375e"/>
                </a:solidFill>
                <a:latin typeface="Arial"/>
              </a:rPr>
              <a:t>Pratiquer une démarche expérimentale pour déterminer la concentration d’une espèce par titrage par la visualisation d’un changement de couleur dans le domaine du contrôle de la qual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2803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Entretien d’une eau de pisc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258920" y="858960"/>
            <a:ext cx="6626160" cy="76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Problémat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L’eau de la piscine est-elle adaptée à la baignade? Sinon, quel traitement quantitatif faut-il effectuer pour la rendre accessibl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179280" y="620280"/>
            <a:ext cx="87854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Matériel nécessaire 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pH-mètre étalonné et sa notice d’utilis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Un ruban de papier p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burettes graduées de 25 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verre à pi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4 béchers de 100 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erlenmeyer de 100 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éprouvette graduée de 25 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éprouvette graduée 50 ou une pipette jaugée de 50 mL et sa propipett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agitateur magnétique et son barreau aimant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pissette d’eau distillé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Papier filt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Lunettes de protection et gan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Produits à disposition 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60 mL de solution d’EDTA à 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</a:rPr>
              <a:t>-2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mol.L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25 mL d’eau de piscine à test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60 mL de solution tampon 10 ( 25 mL sont nécessaire pour 1 dosag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Solution de Noir Eriochrome T (N.E.T) en flacon compte-goutt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itre 1"/>
          <p:cNvSpPr/>
          <p:nvPr/>
        </p:nvSpPr>
        <p:spPr>
          <a:xfrm>
            <a:off x="468360" y="-27000"/>
            <a:ext cx="828036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Entretien d’une eau de pisc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space réservé du pied de page 1"/>
          <p:cNvSpPr/>
          <p:nvPr/>
        </p:nvSpPr>
        <p:spPr>
          <a:xfrm>
            <a:off x="3124080" y="6448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064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Etapes de résolution des questions préliminai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95280" y="1412640"/>
            <a:ext cx="842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1-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roposer une méthode pour mesurer le pH de l’eau de piscine que l’on vous a confié. Faire valider par l’enseignant avant la mise en œuv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’élève propose de mesurer le pH de l’eau de piscine à l’aide du pH-mètre dans un soucis de précis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2- Proposer une méthode pour déterminer le titre hydrotimétrique (TH) de l’eau de piscine que l’on vous a confié. Faire valider par l’enseignant avant la mise en œuv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réparer le titrage en choisissant une prise d’essai de 50 mL, en ajoutant 5 gouttes de solution de NET et 25 mL de solution tamp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Réaliser le titrage, relever le volume équivalent et déterminer le T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tape 1</a:t>
            </a:r>
            <a:br>
              <a:rPr sz="3000"/>
            </a:b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Mesure du pH de l’eau de pisci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Espace réservé du contenu 4" descr=""/>
          <p:cNvPicPr/>
          <p:nvPr/>
        </p:nvPicPr>
        <p:blipFill>
          <a:blip r:embed="rId1"/>
          <a:srcRect l="24497" t="16554" r="0" b="0"/>
          <a:stretch/>
        </p:blipFill>
        <p:spPr>
          <a:xfrm>
            <a:off x="1619280" y="1116000"/>
            <a:ext cx="6041880" cy="5008680"/>
          </a:xfrm>
          <a:prstGeom prst="rect">
            <a:avLst/>
          </a:prstGeom>
          <a:ln w="0">
            <a:noFill/>
          </a:ln>
        </p:spPr>
      </p:pic>
      <p:cxnSp>
        <p:nvCxnSpPr>
          <p:cNvPr id="69" name="Connecteur droit avec flèche 6"/>
          <p:cNvCxnSpPr>
            <a:endCxn id="68" idx="3"/>
          </p:cNvCxnSpPr>
          <p:nvPr/>
        </p:nvCxnSpPr>
        <p:spPr>
          <a:xfrm>
            <a:off x="6443640" y="3619080"/>
            <a:ext cx="121824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headEnd len="lg" type="triangle" w="lg"/>
          </a:ln>
        </p:spPr>
      </p:cxnSp>
      <p:sp>
        <p:nvSpPr>
          <p:cNvPr id="70" name="ZoneTexte 13"/>
          <p:cNvSpPr/>
          <p:nvPr/>
        </p:nvSpPr>
        <p:spPr>
          <a:xfrm>
            <a:off x="7767360" y="3254400"/>
            <a:ext cx="10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pH=8,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tape 2.1 </a:t>
            </a:r>
            <a:br>
              <a:rPr sz="3000"/>
            </a:b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Préparation du dosage par titr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0" y="243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2336400" y="7171920"/>
            <a:ext cx="44708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c</a:t>
            </a:r>
            <a:r>
              <a:rPr b="0" lang="fr-FR" sz="11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inconnue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= 24 µmol.L</a:t>
            </a:r>
            <a:r>
              <a:rPr b="0" lang="fr-FR" sz="11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La concentration molaire de l’eau d’aquarium est donc de 24 µmol.L</a:t>
            </a:r>
            <a:r>
              <a:rPr b="0" lang="fr-FR" sz="11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Image 10" descr=""/>
          <p:cNvPicPr/>
          <p:nvPr/>
        </p:nvPicPr>
        <p:blipFill>
          <a:blip r:embed="rId1"/>
          <a:srcRect l="28679" t="39923" r="50001" b="10800"/>
          <a:stretch/>
        </p:blipFill>
        <p:spPr>
          <a:xfrm>
            <a:off x="1116000" y="1192320"/>
            <a:ext cx="3008160" cy="3981240"/>
          </a:xfrm>
          <a:prstGeom prst="rect">
            <a:avLst/>
          </a:prstGeom>
          <a:ln w="0">
            <a:noFill/>
          </a:ln>
        </p:spPr>
      </p:pic>
      <p:sp>
        <p:nvSpPr>
          <p:cNvPr id="76" name="ZoneTexte 11"/>
          <p:cNvSpPr/>
          <p:nvPr/>
        </p:nvSpPr>
        <p:spPr>
          <a:xfrm>
            <a:off x="4485240" y="1192320"/>
            <a:ext cx="37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ans erlenmeyer de 100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se d’essai eau de piscine 50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5 gouttes de solution de N.E.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lution tampon 25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gitateur magné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ZoneTexte 12"/>
          <p:cNvSpPr/>
          <p:nvPr/>
        </p:nvSpPr>
        <p:spPr>
          <a:xfrm>
            <a:off x="4556160" y="3236760"/>
            <a:ext cx="35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Dans la burette gradu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- ED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tape 2.1 </a:t>
            </a:r>
            <a:br>
              <a:rPr sz="3000"/>
            </a:b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Préparation du dosage par titr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0" y="243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2336400" y="7171920"/>
            <a:ext cx="44708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c</a:t>
            </a:r>
            <a:r>
              <a:rPr b="0" lang="fr-FR" sz="11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inconnue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= 24 µmol.L</a:t>
            </a:r>
            <a:r>
              <a:rPr b="0" lang="fr-FR" sz="11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La concentration molaire de l’eau d’aquarium est donc de 24 µmol.L</a:t>
            </a:r>
            <a:r>
              <a:rPr b="0" lang="fr-FR" sz="11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Image 2" descr=""/>
          <p:cNvPicPr/>
          <p:nvPr/>
        </p:nvPicPr>
        <p:blipFill>
          <a:blip r:embed="rId1"/>
          <a:srcRect l="28735" t="0" r="29526" b="0"/>
          <a:stretch/>
        </p:blipFill>
        <p:spPr>
          <a:xfrm>
            <a:off x="755640" y="958680"/>
            <a:ext cx="3816360" cy="5143680"/>
          </a:xfrm>
          <a:prstGeom prst="rect">
            <a:avLst/>
          </a:prstGeom>
          <a:ln w="0">
            <a:noFill/>
          </a:ln>
        </p:spPr>
      </p:pic>
      <p:pic>
        <p:nvPicPr>
          <p:cNvPr id="83" name="Image 4" descr=""/>
          <p:cNvPicPr/>
          <p:nvPr/>
        </p:nvPicPr>
        <p:blipFill>
          <a:blip r:embed="rId2"/>
          <a:stretch/>
        </p:blipFill>
        <p:spPr>
          <a:xfrm>
            <a:off x="5508720" y="1008000"/>
            <a:ext cx="2863800" cy="50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tape 2.2 </a:t>
            </a:r>
            <a:br>
              <a:rPr sz="3000"/>
            </a:b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Réalisation et exploitation du titr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0" y="243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336400" y="7171920"/>
            <a:ext cx="44708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c</a:t>
            </a:r>
            <a:r>
              <a:rPr b="0" lang="fr-FR" sz="11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inconnue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= 24 µmol.L</a:t>
            </a:r>
            <a:r>
              <a:rPr b="0" lang="fr-FR" sz="11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La concentration molaire de l’eau d’aquarium est donc de 24 µmol.L</a:t>
            </a:r>
            <a:r>
              <a:rPr b="0" lang="fr-FR" sz="11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Image 3" descr=""/>
          <p:cNvPicPr/>
          <p:nvPr/>
        </p:nvPicPr>
        <p:blipFill>
          <a:blip r:embed="rId1"/>
          <a:stretch/>
        </p:blipFill>
        <p:spPr>
          <a:xfrm>
            <a:off x="474840" y="1198440"/>
            <a:ext cx="2658960" cy="4724640"/>
          </a:xfrm>
          <a:prstGeom prst="rect">
            <a:avLst/>
          </a:prstGeom>
          <a:ln w="0">
            <a:noFill/>
          </a:ln>
        </p:spPr>
      </p:pic>
      <p:sp>
        <p:nvSpPr>
          <p:cNvPr id="89" name="ZoneTexte 5"/>
          <p:cNvSpPr/>
          <p:nvPr/>
        </p:nvSpPr>
        <p:spPr>
          <a:xfrm>
            <a:off x="3729600" y="1484280"/>
            <a:ext cx="37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Fin du titrage: couleur bleu « pur 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oneTexte 6"/>
          <p:cNvSpPr/>
          <p:nvPr/>
        </p:nvSpPr>
        <p:spPr>
          <a:xfrm>
            <a:off x="3735360" y="2057400"/>
            <a:ext cx="474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Volume versé à l’équivalence: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eq= 10,5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oneTexte 11"/>
          <p:cNvSpPr/>
          <p:nvPr/>
        </p:nvSpPr>
        <p:spPr>
          <a:xfrm>
            <a:off x="3301920" y="2705040"/>
            <a:ext cx="5518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ploitation: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( [Ca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] + [Mg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] ) x V (prise d’essai) = C(EDTA) x Ve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Après développement et application numérique on trouv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[Ca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] + [Mg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] = 0,0021 mol.L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Ce qui correspond à un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 de 21°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7T12:53:56Z</dcterms:created>
  <dc:creator>d.duthoit</dc:creator>
  <dc:description/>
  <dc:language>en-US</dc:language>
  <cp:lastModifiedBy>damien duthoit</cp:lastModifiedBy>
  <dcterms:modified xsi:type="dcterms:W3CDTF">2018-04-10T13:13:15Z</dcterms:modified>
  <cp:revision>72</cp:revision>
  <dc:subject/>
  <dc:title>Diapositive 1</dc:title>
</cp:coreProperties>
</file>