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ECD8-A312-4B4F-A41A-FAC6245C2E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EEA8-9291-455A-8C2D-C7578DDBCED6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B1EF-5328-4406-9E67-E0567037E7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A600-5650-41ED-9182-5D78A8787E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335C-A4E9-497F-A742-BBB56AB32D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EFFF-7E1C-46B5-8AA2-2F45A64179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C42C-E094-4BF5-9501-058808B981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A427-4840-4E32-B647-72EC277E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532B-FAE1-4382-91EB-4C229735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1A18-F0C8-4F6C-9CCB-E1DA74B0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2CBE-1C63-46D1-82FC-7FE1BE7E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57A2-210B-4088-BB2C-828E1916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00E9-66FF-4221-8309-6D63E788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E2EB-FB01-409F-847A-71FB8959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4C74-BCE9-4DAB-9A36-DD95CFBB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7035-96A3-4FB6-A3EB-4FCC56B7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8AA9-7BE2-4FB0-8F79-2AF209B1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4B9F-68E2-4D32-92BB-72D3F486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C9A8-B828-4B69-8467-F51EB99A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AB04-932D-48B3-814D-6C7215659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0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1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0080" y="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352520" y="907920"/>
            <a:ext cx="6819840" cy="518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747040" cy="143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"/>
          <p:cNvPicPr/>
          <p:nvPr/>
        </p:nvPicPr>
        <p:blipFill>
          <a:blip r:embed="rId2"/>
          <a:stretch/>
        </p:blipFill>
        <p:spPr>
          <a:xfrm>
            <a:off x="1881360" y="2708280"/>
            <a:ext cx="57625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332000" y="1700280"/>
            <a:ext cx="648000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90560" y="2811600"/>
            <a:ext cx="5762880" cy="21034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1619280" y="1993680"/>
            <a:ext cx="59641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Question 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couter le morceau « nothing.mp3 » puis le jouer à la guitare. Que constatez-vous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r les six cordes de la guitare, deux seulement sont accordées correct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l’aide du matériel et des documents fournis, proposer un protocole permettant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érifier que la corde de La et de Ré sont accordé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nothing.mp3" descr=""/>
          <p:cNvPicPr/>
          <p:nvPr/>
        </p:nvPicPr>
        <p:blipFill>
          <a:blip r:embed="rId2"/>
          <a:stretch/>
        </p:blipFill>
        <p:spPr>
          <a:xfrm>
            <a:off x="4267080" y="49417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7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435400" y="1417680"/>
            <a:ext cx="6162480" cy="5200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581040" y="981000"/>
            <a:ext cx="3619440" cy="160992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5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229440" cy="5248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851280" y="1484280"/>
            <a:ext cx="3666960" cy="164772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3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684360" y="3441600"/>
            <a:ext cx="770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 utilisant le document 5 (texte et schéma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emple pour la corde de Mi gr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on joue la corde de Mi grave à la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case, d’après le texte, on doit obtenir un La (donc un signal de fréquence 110Hz d’après le document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joue la corde de Mi avec un doigt en 5ème case, on fait l’acquisition du son avec Winoscillo et on regarde la position du pic fondamental sur le spec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lt;110 Hz, on tend la corde en tournant la méca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gt;110Hz, on détend la corde en tournant la mécanique dans l’autre s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répète l’opération pour les autres cordes en suivant le schéma four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détermine la fréquence fondamentale de la note attendue pour chaque corde à vide avec Winoscillo, en jouant cette note sur une autre corde accord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compare cette fréquence à celle de la corde à accorder avec Winosci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tend (ou on détend) la corde pour avoir la fréquence souhait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e 17"/>
          <p:cNvGrpSpPr/>
          <p:nvPr/>
        </p:nvGrpSpPr>
        <p:grpSpPr>
          <a:xfrm>
            <a:off x="2340000" y="1484280"/>
            <a:ext cx="3981600" cy="2077560"/>
            <a:chOff x="2340000" y="1484280"/>
            <a:chExt cx="3981600" cy="2077560"/>
          </a:xfrm>
        </p:grpSpPr>
        <p:pic>
          <p:nvPicPr>
            <p:cNvPr id="102" name="Image 6" descr="https://www.play-music.com/assets/accordage.png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3981600" cy="15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Ellipse 7"/>
            <p:cNvSpPr/>
            <p:nvPr/>
          </p:nvSpPr>
          <p:spPr>
            <a:xfrm>
              <a:off x="2771640" y="2492280"/>
              <a:ext cx="28872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Ellipse 9"/>
            <p:cNvSpPr/>
            <p:nvPr/>
          </p:nvSpPr>
          <p:spPr>
            <a:xfrm>
              <a:off x="5004000" y="2708280"/>
              <a:ext cx="28728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Connecteur droit avec flèche 11"/>
            <p:cNvCxnSpPr/>
            <p:nvPr/>
          </p:nvCxnSpPr>
          <p:spPr>
            <a:xfrm flipV="1">
              <a:off x="4571640" y="2925720"/>
              <a:ext cx="432360" cy="358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06" name="Connecteur droit avec flèche 12"/>
            <p:cNvCxnSpPr/>
            <p:nvPr/>
          </p:nvCxnSpPr>
          <p:spPr>
            <a:xfrm flipH="1" flipV="1">
              <a:off x="3060000" y="2781000"/>
              <a:ext cx="935640" cy="504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07" name="ZoneTexte 16"/>
            <p:cNvSpPr/>
            <p:nvPr/>
          </p:nvSpPr>
          <p:spPr>
            <a:xfrm>
              <a:off x="3852000" y="32853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ême 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13" name="Ellipse 9"/>
          <p:cNvSpPr/>
          <p:nvPr/>
        </p:nvSpPr>
        <p:spPr>
          <a:xfrm>
            <a:off x="2771640" y="213192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llipse 10"/>
          <p:cNvSpPr/>
          <p:nvPr/>
        </p:nvSpPr>
        <p:spPr>
          <a:xfrm>
            <a:off x="5000760" y="2320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1506600" y="3086280"/>
            <a:ext cx="611964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accorder la corde de 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a corde de Ré accordé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joue la corde de Ré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, on a un Sol, on obtient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196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corde de Sol à vide doit donc donner f =196 Hz, si ce n’est pas le cas on tend ou détend la cor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1" name="Ellipse 7"/>
          <p:cNvSpPr/>
          <p:nvPr/>
        </p:nvSpPr>
        <p:spPr>
          <a:xfrm>
            <a:off x="2771640" y="1955880"/>
            <a:ext cx="28908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9"/>
          <p:cNvSpPr/>
          <p:nvPr/>
        </p:nvSpPr>
        <p:spPr>
          <a:xfrm>
            <a:off x="4535640" y="2131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511280" y="3573360"/>
            <a:ext cx="633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S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Si en 4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ol,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 247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7492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9" name="Ellipse 7"/>
          <p:cNvSpPr/>
          <p:nvPr/>
        </p:nvSpPr>
        <p:spPr>
          <a:xfrm>
            <a:off x="2771640" y="176040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lipse 9"/>
          <p:cNvSpPr/>
          <p:nvPr/>
        </p:nvSpPr>
        <p:spPr>
          <a:xfrm>
            <a:off x="5000760" y="19573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1187280" y="3522600"/>
            <a:ext cx="67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Mi aig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Mi aigu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i qui est à 330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68360" y="1484280"/>
            <a:ext cx="83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e fois les six cordes accordées, on vérifie l’accordage avec le smartphone, l’accordeur électronique, ou en faisant le spectre de chaque note du morceau enregistré par l’élève sur Aud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E:\DCIM\100SSCAM\S8300858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1976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390600" y="1557360"/>
            <a:ext cx="8362800" cy="1485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Résultat de recherche d'images pour &quot;guitare&quot;"/>
          <p:cNvPicPr/>
          <p:nvPr/>
        </p:nvPicPr>
        <p:blipFill>
          <a:blip r:embed="rId2"/>
          <a:stretch/>
        </p:blipFill>
        <p:spPr>
          <a:xfrm>
            <a:off x="1030320" y="3357720"/>
            <a:ext cx="7083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93880" y="1125360"/>
            <a:ext cx="7238880" cy="57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352440" y="1989000"/>
            <a:ext cx="8439120" cy="201960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1"/>
          <p:cNvSpPr/>
          <p:nvPr/>
        </p:nvSpPr>
        <p:spPr>
          <a:xfrm>
            <a:off x="352440" y="4653000"/>
            <a:ext cx="8439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marque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 accordeur électronique ou l’application GuitarTuna pour Android est utilisée par l’enseignant pour vérifier l’accordage à la f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ût estimé: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4 euros par guitare (Conrad), 5 euros maximum par microphone,  15 euros pour un accordeur (pas indispens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guitares sont aussi utilisées en SL et MPS ainsi qu’en CP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638280" y="1500120"/>
            <a:ext cx="7867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600120" y="2162160"/>
            <a:ext cx="7943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957240" y="115920"/>
            <a:ext cx="722628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71520" y="1252440"/>
            <a:ext cx="66009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162080" y="1266840"/>
            <a:ext cx="68198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GRAM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necteur droit 4"/>
          <p:cNvSpPr/>
          <p:nvPr/>
        </p:nvSpPr>
        <p:spPr>
          <a:xfrm>
            <a:off x="7093080" y="17002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lèche gauche 8"/>
          <p:cNvSpPr/>
          <p:nvPr/>
        </p:nvSpPr>
        <p:spPr>
          <a:xfrm>
            <a:off x="6516720" y="1844640"/>
            <a:ext cx="703080" cy="856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e 9"/>
          <p:cNvGrpSpPr/>
          <p:nvPr/>
        </p:nvGrpSpPr>
        <p:grpSpPr>
          <a:xfrm>
            <a:off x="468360" y="1341360"/>
            <a:ext cx="8448480" cy="2238480"/>
            <a:chOff x="468360" y="1341360"/>
            <a:chExt cx="8448480" cy="223848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tretch/>
          </p:blipFill>
          <p:spPr>
            <a:xfrm>
              <a:off x="468360" y="1341360"/>
              <a:ext cx="844848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Flèche gauche 10"/>
            <p:cNvSpPr/>
            <p:nvPr/>
          </p:nvSpPr>
          <p:spPr>
            <a:xfrm>
              <a:off x="6559560" y="1846080"/>
              <a:ext cx="704520" cy="85680"/>
            </a:xfrm>
            <a:prstGeom prst="leftArrow">
              <a:avLst>
                <a:gd name="adj1" fmla="val 50000"/>
                <a:gd name="adj2" fmla="val 5002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503280" y="4292640"/>
            <a:ext cx="8440560" cy="242568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12"/>
          <p:cNvSpPr/>
          <p:nvPr/>
        </p:nvSpPr>
        <p:spPr>
          <a:xfrm>
            <a:off x="476280" y="3781440"/>
            <a:ext cx="66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EN  AVEC  LE  PROGRAMME  SPECIF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lèche gauche 16"/>
          <p:cNvSpPr/>
          <p:nvPr/>
        </p:nvSpPr>
        <p:spPr>
          <a:xfrm>
            <a:off x="7812000" y="6381720"/>
            <a:ext cx="704880" cy="85680"/>
          </a:xfrm>
          <a:prstGeom prst="left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Lycée Guy Mollet</dc:creator>
  <dc:description/>
  <dc:language>en-US</dc:language>
  <cp:lastModifiedBy>tazoumbait.f</cp:lastModifiedBy>
  <dcterms:modified xsi:type="dcterms:W3CDTF">2018-03-30T12:42:07Z</dcterms:modified>
  <cp:revision>86</cp:revision>
  <dc:subject/>
  <dc:title>Diapositive 1</dc:title>
</cp:coreProperties>
</file>