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AEB2-3CC2-42B9-9A21-9C9F9A384A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3FD8-763D-473B-B8BE-6EE9D773D8AB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A199-E5E0-4237-A419-48B45FF1E2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4D2F-176E-40A6-923B-724B46CC4D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7A7F-FAC0-41F5-B70C-25B906965C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1B35-B0B0-4F60-BE7D-B80C8BC02F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DE37-130A-49EE-AA37-41DF778896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0B1B-472B-45A6-999B-A7346D89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60F-13E1-4A8D-A214-0B9FBEF6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869-0AF3-4624-9998-37E71DD1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157-5779-4D27-8818-669005FC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1184-5D5C-44CB-909B-13581B4E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E8C8-C380-44D3-9E49-3E6476B5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9EBA-0563-4528-BFD8-951A36C4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A175-C33F-43E5-B7E4-9D949A16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9A40-AB7E-47B2-84BE-A95258CB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3E37-67B1-4786-9096-358F44F7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5300-6781-4322-8A07-B30FBD74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640C-274A-4ED4-99A5-B9CC0C29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8C2E-9FBF-433D-ABC5-AE77A6499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0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1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0080" y="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352520" y="907920"/>
            <a:ext cx="6819840" cy="518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747040" cy="143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2"/>
          <a:stretch/>
        </p:blipFill>
        <p:spPr>
          <a:xfrm>
            <a:off x="1881360" y="2708280"/>
            <a:ext cx="57625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332000" y="1700280"/>
            <a:ext cx="648000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90560" y="2811600"/>
            <a:ext cx="5762880" cy="2103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619280" y="1993680"/>
            <a:ext cx="59641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Question 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couter le morceau « nothing.mp3 » puis le jouer à la guitare. Que constatez-vous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les six cordes de la guitare, deux seulement sont accordées correct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l’aide du matériel et des documents fournis, proposer un protocole permettant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érifier que la corde de La et de Ré sont accord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nothing.mp3" descr=""/>
          <p:cNvPicPr/>
          <p:nvPr/>
        </p:nvPicPr>
        <p:blipFill>
          <a:blip r:embed="rId2"/>
          <a:stretch/>
        </p:blipFill>
        <p:spPr>
          <a:xfrm>
            <a:off x="4267080" y="4941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7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435400" y="1417680"/>
            <a:ext cx="6162480" cy="520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81040" y="981000"/>
            <a:ext cx="3619440" cy="160992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5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229440" cy="5248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851280" y="1484280"/>
            <a:ext cx="3666960" cy="164772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3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684360" y="3441600"/>
            <a:ext cx="770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utilisant le document 5 (texte et schéma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emple pour la corde de Mi gr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on joue la corde de Mi grave à la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case, d’après le texte, on doit obtenir un La (donc un signal de fréquence 110Hz d’après le document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joue la corde de Mi avec un doigt en 5ème case, on fait l’acquisition du son avec Winoscillo et on regarde la position du pic fondamental sur le spec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lt;110 Hz, on tend la corde en tournant la méca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gt;110Hz, on détend la corde en tournant la mécanique dans l’autre s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répète l’opération pour les autres cordes en suivant le schéma four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détermine la fréquence fondamentale de la note attendue pour chaque corde à vide avec Winoscillo, en jouant cette note sur une autre corde accord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compare cette fréquence à celle de la corde à accorder avec Winosci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tend (ou on détend) la corde pour avoir la fréquence souhait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e 17"/>
          <p:cNvGrpSpPr/>
          <p:nvPr/>
        </p:nvGrpSpPr>
        <p:grpSpPr>
          <a:xfrm>
            <a:off x="2340000" y="1484280"/>
            <a:ext cx="3981600" cy="2077560"/>
            <a:chOff x="2340000" y="1484280"/>
            <a:chExt cx="3981600" cy="2077560"/>
          </a:xfrm>
        </p:grpSpPr>
        <p:pic>
          <p:nvPicPr>
            <p:cNvPr id="102" name="Image 6" descr="https://www.play-music.com/assets/accordage.png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3981600" cy="15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Ellipse 7"/>
            <p:cNvSpPr/>
            <p:nvPr/>
          </p:nvSpPr>
          <p:spPr>
            <a:xfrm>
              <a:off x="2771640" y="2492280"/>
              <a:ext cx="28872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Ellipse 9"/>
            <p:cNvSpPr/>
            <p:nvPr/>
          </p:nvSpPr>
          <p:spPr>
            <a:xfrm>
              <a:off x="5004000" y="2708280"/>
              <a:ext cx="28728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Connecteur droit avec flèche 11"/>
            <p:cNvCxnSpPr/>
            <p:nvPr/>
          </p:nvCxnSpPr>
          <p:spPr>
            <a:xfrm flipV="1">
              <a:off x="4571640" y="2925720"/>
              <a:ext cx="432360" cy="358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6" name="Connecteur droit avec flèche 12"/>
            <p:cNvCxnSpPr/>
            <p:nvPr/>
          </p:nvCxnSpPr>
          <p:spPr>
            <a:xfrm flipH="1" flipV="1">
              <a:off x="3060000" y="2781000"/>
              <a:ext cx="935640" cy="504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7" name="ZoneTexte 16"/>
            <p:cNvSpPr/>
            <p:nvPr/>
          </p:nvSpPr>
          <p:spPr>
            <a:xfrm>
              <a:off x="3852000" y="32853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ême 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13" name="Ellipse 9"/>
          <p:cNvSpPr/>
          <p:nvPr/>
        </p:nvSpPr>
        <p:spPr>
          <a:xfrm>
            <a:off x="2771640" y="213192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10"/>
          <p:cNvSpPr/>
          <p:nvPr/>
        </p:nvSpPr>
        <p:spPr>
          <a:xfrm>
            <a:off x="5000760" y="2320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1506600" y="3086280"/>
            <a:ext cx="611964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accorder la corde de 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a corde de Ré accordé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joue la corde de Ré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, on a un Sol, on obtient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196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corde de Sol à vide doit donc donner f =196 Hz, si ce n’est pas le cas on tend ou détend la cor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1" name="Ellipse 7"/>
          <p:cNvSpPr/>
          <p:nvPr/>
        </p:nvSpPr>
        <p:spPr>
          <a:xfrm>
            <a:off x="2771640" y="1955880"/>
            <a:ext cx="2890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9"/>
          <p:cNvSpPr/>
          <p:nvPr/>
        </p:nvSpPr>
        <p:spPr>
          <a:xfrm>
            <a:off x="4535640" y="2131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511280" y="3573360"/>
            <a:ext cx="633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S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Si en 4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ol,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 247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7492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9" name="Ellipse 7"/>
          <p:cNvSpPr/>
          <p:nvPr/>
        </p:nvSpPr>
        <p:spPr>
          <a:xfrm>
            <a:off x="2771640" y="176040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lipse 9"/>
          <p:cNvSpPr/>
          <p:nvPr/>
        </p:nvSpPr>
        <p:spPr>
          <a:xfrm>
            <a:off x="5000760" y="19573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1187280" y="352260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Mi aig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Mi aigu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i qui est à 330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8360" y="1484280"/>
            <a:ext cx="83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e fois les six cordes accordées, on vérifie l’accordage avec le smartphone, l’accordeur électronique, ou en faisant le spectre de chaque note du morceau enregistré par l’élève sur Aud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DCIM\100SSCAM\S8300858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197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90600" y="1557360"/>
            <a:ext cx="8362800" cy="148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Résultat de recherche d'images pour &quot;guitare&quot;"/>
          <p:cNvPicPr/>
          <p:nvPr/>
        </p:nvPicPr>
        <p:blipFill>
          <a:blip r:embed="rId2"/>
          <a:stretch/>
        </p:blipFill>
        <p:spPr>
          <a:xfrm>
            <a:off x="1030320" y="3357720"/>
            <a:ext cx="7083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93880" y="1125360"/>
            <a:ext cx="7238880" cy="5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352440" y="1989000"/>
            <a:ext cx="8439120" cy="201960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"/>
          <p:cNvSpPr/>
          <p:nvPr/>
        </p:nvSpPr>
        <p:spPr>
          <a:xfrm>
            <a:off x="352440" y="4653000"/>
            <a:ext cx="8439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marque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 accordeur électronique ou l’application GuitarTuna pour Android est utilisée par l’enseignant pour vérifier l’accordage à la f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ût estimé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4 euros par guitare (Conrad), 5 euros maximum par microphone,  15 euros pour un accordeur (pas indispens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guitares sont aussi utilisées en SL et MPS ainsi qu’en CP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638280" y="1500120"/>
            <a:ext cx="7867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600120" y="2162160"/>
            <a:ext cx="7943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57240" y="115920"/>
            <a:ext cx="72262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71520" y="1252440"/>
            <a:ext cx="66009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62080" y="1266840"/>
            <a:ext cx="68198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GRAM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cteur droit 4"/>
          <p:cNvSpPr/>
          <p:nvPr/>
        </p:nvSpPr>
        <p:spPr>
          <a:xfrm>
            <a:off x="7093080" y="1700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èche gauche 8"/>
          <p:cNvSpPr/>
          <p:nvPr/>
        </p:nvSpPr>
        <p:spPr>
          <a:xfrm>
            <a:off x="6516720" y="1844640"/>
            <a:ext cx="703080" cy="856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e 9"/>
          <p:cNvGrpSpPr/>
          <p:nvPr/>
        </p:nvGrpSpPr>
        <p:grpSpPr>
          <a:xfrm>
            <a:off x="468360" y="1341360"/>
            <a:ext cx="8448480" cy="2238480"/>
            <a:chOff x="468360" y="1341360"/>
            <a:chExt cx="8448480" cy="223848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tretch/>
          </p:blipFill>
          <p:spPr>
            <a:xfrm>
              <a:off x="468360" y="1341360"/>
              <a:ext cx="844848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lèche gauche 10"/>
            <p:cNvSpPr/>
            <p:nvPr/>
          </p:nvSpPr>
          <p:spPr>
            <a:xfrm>
              <a:off x="6559560" y="1846080"/>
              <a:ext cx="704520" cy="85680"/>
            </a:xfrm>
            <a:prstGeom prst="leftArrow">
              <a:avLst>
                <a:gd name="adj1" fmla="val 50000"/>
                <a:gd name="adj2" fmla="val 5002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03280" y="4292640"/>
            <a:ext cx="8440560" cy="24256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12"/>
          <p:cNvSpPr/>
          <p:nvPr/>
        </p:nvSpPr>
        <p:spPr>
          <a:xfrm>
            <a:off x="476280" y="3781440"/>
            <a:ext cx="66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EN  AVEC  LE  PROGRAMME  SPECIF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èche gauche 16"/>
          <p:cNvSpPr/>
          <p:nvPr/>
        </p:nvSpPr>
        <p:spPr>
          <a:xfrm>
            <a:off x="7812000" y="6381720"/>
            <a:ext cx="704880" cy="85680"/>
          </a:xfrm>
          <a:prstGeom prst="lef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Lycée Guy Mollet</dc:creator>
  <dc:description/>
  <dc:language>en-US</dc:language>
  <cp:lastModifiedBy>tazoumbait.f</cp:lastModifiedBy>
  <dcterms:modified xsi:type="dcterms:W3CDTF">2018-03-30T12:42:07Z</dcterms:modified>
  <cp:revision>86</cp:revision>
  <dc:subject/>
  <dc:title>Diapositive 1</dc:title>
</cp:coreProperties>
</file>