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23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9D2A-1AD3-43F8-AF41-896C1AE9B70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C243-37BE-409F-A02B-DC45B52BA19C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pied de page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stage SPH_01.A  Octobre_Novembr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2AE9-58A3-4B05-87BD-D84B49DD9D5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B322-7F57-48E6-8035-5FFDD0833F8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1D9F-579E-476E-AF82-2E049682C3F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6204-F80B-4453-8D90-269819D0340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BC16-6DAE-4E51-827D-9CB93BA539F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AF40-D536-4D90-9EB4-4C0C01541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272A-DA4D-40DA-89BB-5833FCC7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72FB-4B65-4B07-87B5-12804D9AE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7ED4-7918-4219-9CF1-998640A8E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16C2-41A1-4678-A86E-7AE24EC6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ABE3-AFC8-4DFA-A6F6-5EB6326D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CA86-CC35-467F-8E9C-BA3C2989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C3AB-9617-4D9C-910A-2ABC79EA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B3E9-ABE6-4557-8544-DC9D8082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E19D-54AF-484A-B890-19553E38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F4C4-8169-47AA-93C7-3C2FBDAF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27C7-5098-4398-AD0B-6C40F50C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F4D4-8A85-4F5F-B683-8B639AFA92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395280" y="3357720"/>
            <a:ext cx="8569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20 février et 10 avril 2018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LYCEE DARCHICOURT - HENIN-BEAU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ou LYCEE ROBESPIERRE 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Image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439640" cy="1044720"/>
          </a:xfrm>
          <a:prstGeom prst="rect">
            <a:avLst/>
          </a:prstGeom>
          <a:ln w="0">
            <a:noFill/>
          </a:ln>
        </p:spPr>
      </p:pic>
      <p:pic>
        <p:nvPicPr>
          <p:cNvPr id="50" name="Image 2" descr=""/>
          <p:cNvPicPr/>
          <p:nvPr/>
        </p:nvPicPr>
        <p:blipFill>
          <a:blip r:embed="rId2"/>
          <a:stretch/>
        </p:blipFill>
        <p:spPr>
          <a:xfrm>
            <a:off x="5219640" y="214200"/>
            <a:ext cx="3826080" cy="849600"/>
          </a:xfrm>
          <a:prstGeom prst="rect">
            <a:avLst/>
          </a:prstGeom>
          <a:ln w="0">
            <a:noFill/>
          </a:ln>
        </p:spPr>
      </p:pic>
      <p:sp>
        <p:nvSpPr>
          <p:cNvPr id="51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7"/>
          <p:cNvSpPr/>
          <p:nvPr/>
        </p:nvSpPr>
        <p:spPr>
          <a:xfrm>
            <a:off x="611280" y="1628640"/>
            <a:ext cx="8137440" cy="201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ce6f2"/>
              </a:gs>
              <a:gs pos="100000">
                <a:srgbClr val="dce6f2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RESOLU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D’UN PROBLEME SCIENTIFIQU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A CARACTERE EXPERIM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0080" y="0"/>
            <a:ext cx="8064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tapes de résolution des questions prélimina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352520" y="907920"/>
            <a:ext cx="6819840" cy="518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2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747040" cy="143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"/>
          <p:cNvPicPr/>
          <p:nvPr/>
        </p:nvPicPr>
        <p:blipFill>
          <a:blip r:embed="rId2"/>
          <a:stretch/>
        </p:blipFill>
        <p:spPr>
          <a:xfrm>
            <a:off x="1881360" y="2708280"/>
            <a:ext cx="576252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064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Etapes de résolution des questions préliminai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1332000" y="1700280"/>
            <a:ext cx="6480000" cy="432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690560" y="2811600"/>
            <a:ext cx="5762880" cy="21034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1619280" y="1993680"/>
            <a:ext cx="596412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Question 2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couter le morceau « nothing.mp3 » puis le jouer à la guitare. Que constatez-vous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r les six cordes de la guitare, deux seulement sont accordées correct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 l’aide du matériel et des documents fournis, proposer un protocole permettant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érifier que la corde de La et de Ré sont accordé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nothing.mp3" descr=""/>
          <p:cNvPicPr/>
          <p:nvPr/>
        </p:nvPicPr>
        <p:blipFill>
          <a:blip r:embed="rId2"/>
          <a:stretch/>
        </p:blipFill>
        <p:spPr>
          <a:xfrm>
            <a:off x="4267080" y="494172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279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2435400" y="1417680"/>
            <a:ext cx="6162480" cy="5200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581040" y="981000"/>
            <a:ext cx="3619440" cy="1609920"/>
          </a:xfrm>
          <a:prstGeom prst="rect">
            <a:avLst/>
          </a:prstGeom>
          <a:ln w="0">
            <a:noFill/>
          </a:ln>
        </p:spPr>
      </p:pic>
      <p:sp>
        <p:nvSpPr>
          <p:cNvPr id="92" name="ZoneTexte 5"/>
          <p:cNvSpPr/>
          <p:nvPr/>
        </p:nvSpPr>
        <p:spPr>
          <a:xfrm>
            <a:off x="2897280" y="33336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sur la corde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476360" y="1052640"/>
            <a:ext cx="6229440" cy="5248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3851280" y="1484280"/>
            <a:ext cx="3666960" cy="1647720"/>
          </a:xfrm>
          <a:prstGeom prst="rect">
            <a:avLst/>
          </a:prstGeom>
          <a:ln w="0">
            <a:noFill/>
          </a:ln>
        </p:spPr>
      </p:pic>
      <p:sp>
        <p:nvSpPr>
          <p:cNvPr id="95" name="ZoneTexte 3"/>
          <p:cNvSpPr/>
          <p:nvPr/>
        </p:nvSpPr>
        <p:spPr>
          <a:xfrm>
            <a:off x="2897280" y="33336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sur la corde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684360" y="3441600"/>
            <a:ext cx="7704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n utilisant le document 5 (texte et schéma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xemple pour la corde de Mi gra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 on joue la corde de Mi grave à la 5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case, d’après le texte, on doit obtenir un La (donc un signal de fréquence 110Hz d’après le document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joue la corde de Mi avec un doigt en 5ème case, on fait l’acquisition du son avec Winoscillo et on regarde la position du pic fondamental sur le spect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 f&lt;110 Hz, on tend la corde en tournant la méca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 f&gt;110Hz, on détend la corde en tournant la mécanique dans l’autre s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répète l’opération pour les autres cordes en suivant le schéma fourn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détermine la fréquence fondamentale de la note attendue pour chaque corde à vide avec Winoscillo, en jouant cette note sur une autre corde accordé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compare cette fréquence à celle de la corde à accorder avec Winoscil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tend (ou on détend) la corde pour avoir la fréquence souhaité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e 17"/>
          <p:cNvGrpSpPr/>
          <p:nvPr/>
        </p:nvGrpSpPr>
        <p:grpSpPr>
          <a:xfrm>
            <a:off x="2340000" y="1484280"/>
            <a:ext cx="3981600" cy="2077560"/>
            <a:chOff x="2340000" y="1484280"/>
            <a:chExt cx="3981600" cy="2077560"/>
          </a:xfrm>
        </p:grpSpPr>
        <p:pic>
          <p:nvPicPr>
            <p:cNvPr id="102" name="Image 6" descr="https://www.play-music.com/assets/accordage.png"/>
            <p:cNvPicPr/>
            <p:nvPr/>
          </p:nvPicPr>
          <p:blipFill>
            <a:blip r:embed="rId1"/>
            <a:stretch/>
          </p:blipFill>
          <p:spPr>
            <a:xfrm>
              <a:off x="2340000" y="1484280"/>
              <a:ext cx="3981600" cy="15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Ellipse 7"/>
            <p:cNvSpPr/>
            <p:nvPr/>
          </p:nvSpPr>
          <p:spPr>
            <a:xfrm>
              <a:off x="2771640" y="2492280"/>
              <a:ext cx="288720" cy="2887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Ellipse 9"/>
            <p:cNvSpPr/>
            <p:nvPr/>
          </p:nvSpPr>
          <p:spPr>
            <a:xfrm>
              <a:off x="5004000" y="2708280"/>
              <a:ext cx="287280" cy="2887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5" name="Connecteur droit avec flèche 11"/>
            <p:cNvCxnSpPr/>
            <p:nvPr/>
          </p:nvCxnSpPr>
          <p:spPr>
            <a:xfrm flipV="1">
              <a:off x="4571640" y="2925720"/>
              <a:ext cx="432360" cy="3589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106" name="Connecteur droit avec flèche 12"/>
            <p:cNvCxnSpPr/>
            <p:nvPr/>
          </p:nvCxnSpPr>
          <p:spPr>
            <a:xfrm flipH="1" flipV="1">
              <a:off x="3060000" y="2781000"/>
              <a:ext cx="935640" cy="504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07" name="ZoneTexte 16"/>
            <p:cNvSpPr/>
            <p:nvPr/>
          </p:nvSpPr>
          <p:spPr>
            <a:xfrm>
              <a:off x="3852000" y="32853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ême no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mage 6" descr="https://www.play-music.com/assets/accordage.png"/>
          <p:cNvPicPr/>
          <p:nvPr/>
        </p:nvPicPr>
        <p:blipFill>
          <a:blip r:embed="rId1"/>
          <a:stretch/>
        </p:blipFill>
        <p:spPr>
          <a:xfrm>
            <a:off x="2340000" y="1484280"/>
            <a:ext cx="3981600" cy="1584360"/>
          </a:xfrm>
          <a:prstGeom prst="rect">
            <a:avLst/>
          </a:prstGeom>
          <a:ln w="0">
            <a:noFill/>
          </a:ln>
        </p:spPr>
      </p:pic>
      <p:sp>
        <p:nvSpPr>
          <p:cNvPr id="113" name="Ellipse 9"/>
          <p:cNvSpPr/>
          <p:nvPr/>
        </p:nvSpPr>
        <p:spPr>
          <a:xfrm>
            <a:off x="2771640" y="2131920"/>
            <a:ext cx="2890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Ellipse 10"/>
          <p:cNvSpPr/>
          <p:nvPr/>
        </p:nvSpPr>
        <p:spPr>
          <a:xfrm>
            <a:off x="5000760" y="232092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1506600" y="3086280"/>
            <a:ext cx="6119640" cy="8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Pour accorder la corde de So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on utilise la corde de Ré accordé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n joue la corde de Ré en 5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ase, on a un Sol, on obtient f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Arial"/>
              </a:rPr>
              <a:t>so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196 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corde de Sol à vide doit donc donner f =196 Hz, si ce n’est pas le cas on tend ou détend la cor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Image 6" descr="https://www.play-music.com/assets/accordage.png"/>
          <p:cNvPicPr/>
          <p:nvPr/>
        </p:nvPicPr>
        <p:blipFill>
          <a:blip r:embed="rId1"/>
          <a:stretch/>
        </p:blipFill>
        <p:spPr>
          <a:xfrm>
            <a:off x="2340000" y="1484280"/>
            <a:ext cx="3981600" cy="1584360"/>
          </a:xfrm>
          <a:prstGeom prst="rect">
            <a:avLst/>
          </a:prstGeom>
          <a:ln w="0">
            <a:noFill/>
          </a:ln>
        </p:spPr>
      </p:pic>
      <p:sp>
        <p:nvSpPr>
          <p:cNvPr id="121" name="Ellipse 7"/>
          <p:cNvSpPr/>
          <p:nvPr/>
        </p:nvSpPr>
        <p:spPr>
          <a:xfrm>
            <a:off x="2771640" y="1955880"/>
            <a:ext cx="289080" cy="288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llipse 9"/>
          <p:cNvSpPr/>
          <p:nvPr/>
        </p:nvSpPr>
        <p:spPr>
          <a:xfrm>
            <a:off x="4535640" y="213192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1511280" y="3573360"/>
            <a:ext cx="633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Pour la corde de Si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on utilise le Si en 4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ase de la corde de Sol, f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Arial"/>
              </a:rPr>
              <a:t>si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= 247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Image 6" descr="https://www.play-music.com/assets/accordage.png"/>
          <p:cNvPicPr/>
          <p:nvPr/>
        </p:nvPicPr>
        <p:blipFill>
          <a:blip r:embed="rId1"/>
          <a:stretch/>
        </p:blipFill>
        <p:spPr>
          <a:xfrm>
            <a:off x="2340000" y="1474920"/>
            <a:ext cx="3981600" cy="1584360"/>
          </a:xfrm>
          <a:prstGeom prst="rect">
            <a:avLst/>
          </a:prstGeom>
          <a:ln w="0">
            <a:noFill/>
          </a:ln>
        </p:spPr>
      </p:pic>
      <p:sp>
        <p:nvSpPr>
          <p:cNvPr id="129" name="Ellipse 7"/>
          <p:cNvSpPr/>
          <p:nvPr/>
        </p:nvSpPr>
        <p:spPr>
          <a:xfrm>
            <a:off x="2771640" y="1760400"/>
            <a:ext cx="2890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lipse 9"/>
          <p:cNvSpPr/>
          <p:nvPr/>
        </p:nvSpPr>
        <p:spPr>
          <a:xfrm>
            <a:off x="5000760" y="195732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"/>
          <p:cNvSpPr/>
          <p:nvPr/>
        </p:nvSpPr>
        <p:spPr>
          <a:xfrm>
            <a:off x="1187280" y="3522600"/>
            <a:ext cx="67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Pour la corde de Mi aigu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on utilise le Mi aigu en 5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ase de la corde de Si qui est à 330 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468360" y="1484280"/>
            <a:ext cx="835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e fois les six cordes accordées, on vérifie l’accordage avec le smartphone, l’accordeur électronique, ou en faisant le spectre de chaque note du morceau enregistré par l’élève sur Auda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E:\DCIM\100SSCAM\S8300858.JPG"/>
          <p:cNvPicPr/>
          <p:nvPr/>
        </p:nvPicPr>
        <p:blipFill>
          <a:blip r:embed="rId1"/>
          <a:stretch/>
        </p:blipFill>
        <p:spPr>
          <a:xfrm>
            <a:off x="2050920" y="2133720"/>
            <a:ext cx="4919760" cy="36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390600" y="1557360"/>
            <a:ext cx="8362800" cy="1485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Résultat de recherche d'images pour &quot;guitare&quot;"/>
          <p:cNvPicPr/>
          <p:nvPr/>
        </p:nvPicPr>
        <p:blipFill>
          <a:blip r:embed="rId2"/>
          <a:stretch/>
        </p:blipFill>
        <p:spPr>
          <a:xfrm>
            <a:off x="1030320" y="3357720"/>
            <a:ext cx="708336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893880" y="1125360"/>
            <a:ext cx="7238880" cy="571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2"/>
          <a:stretch/>
        </p:blipFill>
        <p:spPr>
          <a:xfrm>
            <a:off x="352440" y="1989000"/>
            <a:ext cx="8439120" cy="2019600"/>
          </a:xfrm>
          <a:prstGeom prst="rect">
            <a:avLst/>
          </a:prstGeom>
          <a:ln w="0">
            <a:noFill/>
          </a:ln>
        </p:spPr>
      </p:pic>
      <p:sp>
        <p:nvSpPr>
          <p:cNvPr id="59" name="ZoneTexte 1"/>
          <p:cNvSpPr/>
          <p:nvPr/>
        </p:nvSpPr>
        <p:spPr>
          <a:xfrm>
            <a:off x="352440" y="4653000"/>
            <a:ext cx="84391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marque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n accordeur électronique ou l’application GuitarTuna pour Android est utilisée par l’enseignant pour vérifier l’accordage à la f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ût estimé: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4 euros par guitare (Conrad), 5 euros maximum par microphone,  15 euros pour un accordeur (pas indispens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guitares sont aussi utilisées en SL et MPS ainsi qu’en CP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1"/>
          <a:stretch/>
        </p:blipFill>
        <p:spPr>
          <a:xfrm>
            <a:off x="638280" y="1500120"/>
            <a:ext cx="78674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600120" y="2162160"/>
            <a:ext cx="79437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957240" y="115920"/>
            <a:ext cx="7226280" cy="62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271520" y="1252440"/>
            <a:ext cx="660096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162080" y="1266840"/>
            <a:ext cx="681984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ROGRAMM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onnecteur droit 4"/>
          <p:cNvSpPr/>
          <p:nvPr/>
        </p:nvSpPr>
        <p:spPr>
          <a:xfrm>
            <a:off x="7093080" y="17002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lèche gauche 8"/>
          <p:cNvSpPr/>
          <p:nvPr/>
        </p:nvSpPr>
        <p:spPr>
          <a:xfrm>
            <a:off x="6516720" y="1844640"/>
            <a:ext cx="703080" cy="856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e 9"/>
          <p:cNvGrpSpPr/>
          <p:nvPr/>
        </p:nvGrpSpPr>
        <p:grpSpPr>
          <a:xfrm>
            <a:off x="468360" y="1341360"/>
            <a:ext cx="8448480" cy="2238480"/>
            <a:chOff x="468360" y="1341360"/>
            <a:chExt cx="8448480" cy="2238480"/>
          </a:xfrm>
        </p:grpSpPr>
        <p:pic>
          <p:nvPicPr>
            <p:cNvPr id="74" name="Picture 2" descr=""/>
            <p:cNvPicPr/>
            <p:nvPr/>
          </p:nvPicPr>
          <p:blipFill>
            <a:blip r:embed="rId1"/>
            <a:stretch/>
          </p:blipFill>
          <p:spPr>
            <a:xfrm>
              <a:off x="468360" y="1341360"/>
              <a:ext cx="8448480" cy="22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Flèche gauche 10"/>
            <p:cNvSpPr/>
            <p:nvPr/>
          </p:nvSpPr>
          <p:spPr>
            <a:xfrm>
              <a:off x="6559560" y="1846080"/>
              <a:ext cx="704520" cy="85680"/>
            </a:xfrm>
            <a:prstGeom prst="leftArrow">
              <a:avLst>
                <a:gd name="adj1" fmla="val 50000"/>
                <a:gd name="adj2" fmla="val 50021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503280" y="4292640"/>
            <a:ext cx="8440560" cy="2425680"/>
          </a:xfrm>
          <a:prstGeom prst="rect">
            <a:avLst/>
          </a:prstGeom>
          <a:ln w="0">
            <a:noFill/>
          </a:ln>
        </p:spPr>
      </p:pic>
      <p:sp>
        <p:nvSpPr>
          <p:cNvPr id="77" name="ZoneTexte 12"/>
          <p:cNvSpPr/>
          <p:nvPr/>
        </p:nvSpPr>
        <p:spPr>
          <a:xfrm>
            <a:off x="476280" y="3781440"/>
            <a:ext cx="661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IEN  AVEC  LE  PROGRAMME  SPECIF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lèche gauche 16"/>
          <p:cNvSpPr/>
          <p:nvPr/>
        </p:nvSpPr>
        <p:spPr>
          <a:xfrm>
            <a:off x="7812000" y="6381720"/>
            <a:ext cx="704880" cy="85680"/>
          </a:xfrm>
          <a:prstGeom prst="left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7T12:53:56Z</dcterms:created>
  <dc:creator>Lycée Guy Mollet</dc:creator>
  <dc:description/>
  <dc:language>en-US</dc:language>
  <cp:lastModifiedBy>tazoumbait.f</cp:lastModifiedBy>
  <dcterms:modified xsi:type="dcterms:W3CDTF">2018-03-30T12:42:07Z</dcterms:modified>
  <cp:revision>86</cp:revision>
  <dc:subject/>
  <dc:title>Diapositive 1</dc:title>
</cp:coreProperties>
</file>