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23.jpeg" ContentType="image/jpe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660E5-24B9-4A71-B6EE-B2200872F6E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  <a:ea typeface="MS PGothic"/>
            </a:endParaRPr>
          </a:p>
        </p:txBody>
      </p:sp>
      <p:sp>
        <p:nvSpPr>
          <p:cNvPr id="1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428E5-D92F-4FA8-8C79-98A8F17F3DEF}" type="slidenum"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Espace réservé du pied de page 1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stage SPH_01.A  Octobre_Novembre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6208A-3C0E-4669-9E8F-99545ADA01E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4184D-9334-408D-9483-37DC505DA65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5D13A-87EE-4E33-AE0F-32F4FE3536F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22653-4E7E-4685-BD1A-8758880C699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329D0-5169-423C-B967-5C688824390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DAA5-11F8-4E66-B50F-801F9586D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9AAA-4BC4-479F-9F40-DC8DE05F3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60E8-5F71-410E-982A-CA03F5FAE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7E6E-A7AB-4674-B3D5-9D91CAA71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0B67-1338-428E-8A67-E22BF0F21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3CD0-117F-4D59-A3B8-8DAE8204F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2E24-62FA-4D46-BA7C-2E857CAF4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533C-DDF7-46A8-A57E-2628F55C0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CFF2-5E60-4EEC-92CE-D77E448F4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9F27-10D9-4481-9C9D-E9F51F48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F916-76E2-4F9C-A581-F3124A2F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9B0D-96E2-4269-B15E-E3EC6E47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D9FB9-DDDB-469F-B055-ACA2BEFFE8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395280" y="3357720"/>
            <a:ext cx="856944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     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20 février et 10 avril 2018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LYCEE DARCHICOURT - HENIN-BEAUM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ou LYCEE ROBESPIERRE AR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Image 1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439640" cy="1044720"/>
          </a:xfrm>
          <a:prstGeom prst="rect">
            <a:avLst/>
          </a:prstGeom>
          <a:ln w="0">
            <a:noFill/>
          </a:ln>
        </p:spPr>
      </p:pic>
      <p:pic>
        <p:nvPicPr>
          <p:cNvPr id="50" name="Image 2" descr=""/>
          <p:cNvPicPr/>
          <p:nvPr/>
        </p:nvPicPr>
        <p:blipFill>
          <a:blip r:embed="rId2"/>
          <a:stretch/>
        </p:blipFill>
        <p:spPr>
          <a:xfrm>
            <a:off x="5219640" y="214200"/>
            <a:ext cx="3826080" cy="849600"/>
          </a:xfrm>
          <a:prstGeom prst="rect">
            <a:avLst/>
          </a:prstGeom>
          <a:ln w="0">
            <a:noFill/>
          </a:ln>
        </p:spPr>
      </p:pic>
      <p:sp>
        <p:nvSpPr>
          <p:cNvPr id="51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7"/>
          <p:cNvSpPr/>
          <p:nvPr/>
        </p:nvSpPr>
        <p:spPr>
          <a:xfrm>
            <a:off x="611280" y="1628640"/>
            <a:ext cx="8137440" cy="201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ce6f2"/>
              </a:gs>
              <a:gs pos="100000">
                <a:srgbClr val="dce6f2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RESOLU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D’UN PROBLEME SCIENTIFIQU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A CARACTERE EXPERIM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30080" y="0"/>
            <a:ext cx="8064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tapes de résolution des questions préliminai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352520" y="907920"/>
            <a:ext cx="6819840" cy="5185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2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5747040" cy="143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3" descr=""/>
          <p:cNvPicPr/>
          <p:nvPr/>
        </p:nvPicPr>
        <p:blipFill>
          <a:blip r:embed="rId2"/>
          <a:stretch/>
        </p:blipFill>
        <p:spPr>
          <a:xfrm>
            <a:off x="1881360" y="2708280"/>
            <a:ext cx="576252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064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Etapes de résolution des questions préliminai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1332000" y="1700280"/>
            <a:ext cx="6480000" cy="432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690560" y="2811600"/>
            <a:ext cx="5762880" cy="21034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1619280" y="1993680"/>
            <a:ext cx="596412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Question 2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couter le morceau « nothing.mp3 » puis le jouer à la guitare. Que constatez-vous 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ur les six cordes de la guitare, deux seulement sont accordées correcte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 l’aide du matériel et des documents fournis, proposer un protocole permettant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érifier que la corde de La et de Ré sont accordé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nothing.mp3" descr=""/>
          <p:cNvPicPr/>
          <p:nvPr/>
        </p:nvPicPr>
        <p:blipFill>
          <a:blip r:embed="rId2"/>
          <a:stretch/>
        </p:blipFill>
        <p:spPr>
          <a:xfrm>
            <a:off x="4267080" y="494172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279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2435400" y="1417680"/>
            <a:ext cx="6162480" cy="5200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581040" y="981000"/>
            <a:ext cx="3619440" cy="1609920"/>
          </a:xfrm>
          <a:prstGeom prst="rect">
            <a:avLst/>
          </a:prstGeom>
          <a:ln w="0">
            <a:noFill/>
          </a:ln>
        </p:spPr>
      </p:pic>
      <p:sp>
        <p:nvSpPr>
          <p:cNvPr id="92" name="ZoneTexte 5"/>
          <p:cNvSpPr/>
          <p:nvPr/>
        </p:nvSpPr>
        <p:spPr>
          <a:xfrm>
            <a:off x="2897280" y="333360"/>
            <a:ext cx="29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emple sur la corde de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476360" y="1052640"/>
            <a:ext cx="6229440" cy="5248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3851280" y="1484280"/>
            <a:ext cx="3666960" cy="1647720"/>
          </a:xfrm>
          <a:prstGeom prst="rect">
            <a:avLst/>
          </a:prstGeom>
          <a:ln w="0">
            <a:noFill/>
          </a:ln>
        </p:spPr>
      </p:pic>
      <p:sp>
        <p:nvSpPr>
          <p:cNvPr id="95" name="ZoneTexte 3"/>
          <p:cNvSpPr/>
          <p:nvPr/>
        </p:nvSpPr>
        <p:spPr>
          <a:xfrm>
            <a:off x="2897280" y="333360"/>
            <a:ext cx="29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emple sur la corde de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611280" y="981000"/>
            <a:ext cx="7848360" cy="504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"/>
          <p:cNvSpPr/>
          <p:nvPr/>
        </p:nvSpPr>
        <p:spPr>
          <a:xfrm>
            <a:off x="684360" y="3441600"/>
            <a:ext cx="7704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n utilisant le document 5 (texte et schéma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xemple pour la corde de Mi gra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 on joue la corde de Mi grave à la 5</a:t>
            </a:r>
            <a:r>
              <a:rPr b="0" lang="fr-FR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èm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case, d’après le texte, on doit obtenir un La (donc un signal de fréquence 110Hz d’après le document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 joue la corde de Mi avec un doigt en 5ème case, on fait l’acquisition du son avec Winoscillo et on regarde la position du pic fondamental sur le spect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 f&lt;110 Hz, on tend la corde en tournant la mécani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 f&gt;110Hz, on détend la corde en tournant la mécanique dans l’autre s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 répète l’opération pour les autres cordes en suivant le schéma fourn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 détermine la fréquence fondamentale de la note attendue pour chaque corde à vide avec Winoscillo, en jouant cette note sur une autre corde accordé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 compare cette fréquence à celle de la corde à accorder avec Winoscil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 tend (ou on détend) la corde pour avoir la fréquence souhaité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e 17"/>
          <p:cNvGrpSpPr/>
          <p:nvPr/>
        </p:nvGrpSpPr>
        <p:grpSpPr>
          <a:xfrm>
            <a:off x="2340000" y="1484280"/>
            <a:ext cx="3981600" cy="2077560"/>
            <a:chOff x="2340000" y="1484280"/>
            <a:chExt cx="3981600" cy="2077560"/>
          </a:xfrm>
        </p:grpSpPr>
        <p:pic>
          <p:nvPicPr>
            <p:cNvPr id="102" name="Image 6" descr="https://www.play-music.com/assets/accordage.png"/>
            <p:cNvPicPr/>
            <p:nvPr/>
          </p:nvPicPr>
          <p:blipFill>
            <a:blip r:embed="rId1"/>
            <a:stretch/>
          </p:blipFill>
          <p:spPr>
            <a:xfrm>
              <a:off x="2340000" y="1484280"/>
              <a:ext cx="3981600" cy="15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Ellipse 7"/>
            <p:cNvSpPr/>
            <p:nvPr/>
          </p:nvSpPr>
          <p:spPr>
            <a:xfrm>
              <a:off x="2771640" y="2492280"/>
              <a:ext cx="288720" cy="2887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Ellipse 9"/>
            <p:cNvSpPr/>
            <p:nvPr/>
          </p:nvSpPr>
          <p:spPr>
            <a:xfrm>
              <a:off x="5004000" y="2708280"/>
              <a:ext cx="287280" cy="2887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5" name="Connecteur droit avec flèche 11"/>
            <p:cNvCxnSpPr/>
            <p:nvPr/>
          </p:nvCxnSpPr>
          <p:spPr>
            <a:xfrm flipV="1">
              <a:off x="4571640" y="2925720"/>
              <a:ext cx="432360" cy="35892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106" name="Connecteur droit avec flèche 12"/>
            <p:cNvCxnSpPr/>
            <p:nvPr/>
          </p:nvCxnSpPr>
          <p:spPr>
            <a:xfrm flipH="1" flipV="1">
              <a:off x="3060000" y="2781000"/>
              <a:ext cx="935640" cy="50400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107" name="ZoneTexte 16"/>
            <p:cNvSpPr/>
            <p:nvPr/>
          </p:nvSpPr>
          <p:spPr>
            <a:xfrm>
              <a:off x="3852000" y="32853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Même no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611280" y="981000"/>
            <a:ext cx="7848360" cy="504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Image 6" descr="https://www.play-music.com/assets/accordage.png"/>
          <p:cNvPicPr/>
          <p:nvPr/>
        </p:nvPicPr>
        <p:blipFill>
          <a:blip r:embed="rId1"/>
          <a:stretch/>
        </p:blipFill>
        <p:spPr>
          <a:xfrm>
            <a:off x="2340000" y="1484280"/>
            <a:ext cx="3981600" cy="1584360"/>
          </a:xfrm>
          <a:prstGeom prst="rect">
            <a:avLst/>
          </a:prstGeom>
          <a:ln w="0">
            <a:noFill/>
          </a:ln>
        </p:spPr>
      </p:pic>
      <p:sp>
        <p:nvSpPr>
          <p:cNvPr id="113" name="Ellipse 9"/>
          <p:cNvSpPr/>
          <p:nvPr/>
        </p:nvSpPr>
        <p:spPr>
          <a:xfrm>
            <a:off x="2771640" y="2131920"/>
            <a:ext cx="2890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Ellipse 10"/>
          <p:cNvSpPr/>
          <p:nvPr/>
        </p:nvSpPr>
        <p:spPr>
          <a:xfrm>
            <a:off x="5000760" y="2320920"/>
            <a:ext cx="2872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"/>
          <p:cNvSpPr/>
          <p:nvPr/>
        </p:nvSpPr>
        <p:spPr>
          <a:xfrm>
            <a:off x="1506600" y="3086280"/>
            <a:ext cx="6119640" cy="8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Pour accorder la corde de Sol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on utilise la corde de Ré accordé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n joue la corde de Ré en 5</a:t>
            </a:r>
            <a:r>
              <a:rPr b="0" lang="fr-FR" sz="12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case, on a un Sol, on obtient f</a:t>
            </a:r>
            <a:r>
              <a:rPr b="0" lang="fr-FR" sz="1200" spc="-1" strike="noStrike" baseline="-25000">
                <a:solidFill>
                  <a:srgbClr val="000000"/>
                </a:solidFill>
                <a:latin typeface="Arial"/>
              </a:rPr>
              <a:t>sol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196 H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a corde de Sol à vide doit donc donner f =196 Hz, si ce n’est pas le cas on tend ou détend la cor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611280" y="981000"/>
            <a:ext cx="7848360" cy="504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Image 6" descr="https://www.play-music.com/assets/accordage.png"/>
          <p:cNvPicPr/>
          <p:nvPr/>
        </p:nvPicPr>
        <p:blipFill>
          <a:blip r:embed="rId1"/>
          <a:stretch/>
        </p:blipFill>
        <p:spPr>
          <a:xfrm>
            <a:off x="2340000" y="1484280"/>
            <a:ext cx="3981600" cy="1584360"/>
          </a:xfrm>
          <a:prstGeom prst="rect">
            <a:avLst/>
          </a:prstGeom>
          <a:ln w="0">
            <a:noFill/>
          </a:ln>
        </p:spPr>
      </p:pic>
      <p:sp>
        <p:nvSpPr>
          <p:cNvPr id="121" name="Ellipse 7"/>
          <p:cNvSpPr/>
          <p:nvPr/>
        </p:nvSpPr>
        <p:spPr>
          <a:xfrm>
            <a:off x="2771640" y="1955880"/>
            <a:ext cx="289080" cy="288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Ellipse 9"/>
          <p:cNvSpPr/>
          <p:nvPr/>
        </p:nvSpPr>
        <p:spPr>
          <a:xfrm>
            <a:off x="4535640" y="2131920"/>
            <a:ext cx="2872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"/>
          <p:cNvSpPr/>
          <p:nvPr/>
        </p:nvSpPr>
        <p:spPr>
          <a:xfrm>
            <a:off x="1511280" y="3573360"/>
            <a:ext cx="633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Pour la corde de Si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on utilise le Si en 4</a:t>
            </a:r>
            <a:r>
              <a:rPr b="0" lang="fr-FR" sz="12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case de la corde de Sol, f</a:t>
            </a:r>
            <a:r>
              <a:rPr b="0" lang="fr-FR" sz="1200" spc="-1" strike="noStrike" baseline="-25000">
                <a:solidFill>
                  <a:srgbClr val="000000"/>
                </a:solidFill>
                <a:latin typeface="Arial"/>
              </a:rPr>
              <a:t>si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= 247 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611280" y="981000"/>
            <a:ext cx="7848360" cy="504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Image 6" descr="https://www.play-music.com/assets/accordage.png"/>
          <p:cNvPicPr/>
          <p:nvPr/>
        </p:nvPicPr>
        <p:blipFill>
          <a:blip r:embed="rId1"/>
          <a:stretch/>
        </p:blipFill>
        <p:spPr>
          <a:xfrm>
            <a:off x="2340000" y="1474920"/>
            <a:ext cx="3981600" cy="1584360"/>
          </a:xfrm>
          <a:prstGeom prst="rect">
            <a:avLst/>
          </a:prstGeom>
          <a:ln w="0">
            <a:noFill/>
          </a:ln>
        </p:spPr>
      </p:pic>
      <p:sp>
        <p:nvSpPr>
          <p:cNvPr id="129" name="Ellipse 7"/>
          <p:cNvSpPr/>
          <p:nvPr/>
        </p:nvSpPr>
        <p:spPr>
          <a:xfrm>
            <a:off x="2771640" y="1760400"/>
            <a:ext cx="2890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lipse 9"/>
          <p:cNvSpPr/>
          <p:nvPr/>
        </p:nvSpPr>
        <p:spPr>
          <a:xfrm>
            <a:off x="5000760" y="1957320"/>
            <a:ext cx="2872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"/>
          <p:cNvSpPr/>
          <p:nvPr/>
        </p:nvSpPr>
        <p:spPr>
          <a:xfrm>
            <a:off x="1187280" y="3522600"/>
            <a:ext cx="676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Pour la corde de Mi aigu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on utilise le Mi aigu en 5</a:t>
            </a:r>
            <a:r>
              <a:rPr b="0" lang="fr-FR" sz="12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case de la corde de Si qui est à 330 H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VER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468360" y="1484280"/>
            <a:ext cx="835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e fois les six cordes accordées, on vérifie l’accordage avec le smartphone, l’accordeur électronique, ou en faisant le spectre de chaque note du morceau enregistré par l’élève sur Auda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E:\DCIM\100SSCAM\S8300858.JPG"/>
          <p:cNvPicPr/>
          <p:nvPr/>
        </p:nvPicPr>
        <p:blipFill>
          <a:blip r:embed="rId1"/>
          <a:stretch/>
        </p:blipFill>
        <p:spPr>
          <a:xfrm>
            <a:off x="2050920" y="2133720"/>
            <a:ext cx="4919760" cy="36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390600" y="1557360"/>
            <a:ext cx="8362800" cy="1485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Résultat de recherche d'images pour &quot;guitare&quot;"/>
          <p:cNvPicPr/>
          <p:nvPr/>
        </p:nvPicPr>
        <p:blipFill>
          <a:blip r:embed="rId2"/>
          <a:stretch/>
        </p:blipFill>
        <p:spPr>
          <a:xfrm>
            <a:off x="1030320" y="3357720"/>
            <a:ext cx="708336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1"/>
          <a:stretch/>
        </p:blipFill>
        <p:spPr>
          <a:xfrm>
            <a:off x="893880" y="1125360"/>
            <a:ext cx="7238880" cy="571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"/>
          <p:cNvPicPr/>
          <p:nvPr/>
        </p:nvPicPr>
        <p:blipFill>
          <a:blip r:embed="rId2"/>
          <a:stretch/>
        </p:blipFill>
        <p:spPr>
          <a:xfrm>
            <a:off x="352440" y="1989000"/>
            <a:ext cx="8439120" cy="2019600"/>
          </a:xfrm>
          <a:prstGeom prst="rect">
            <a:avLst/>
          </a:prstGeom>
          <a:ln w="0">
            <a:noFill/>
          </a:ln>
        </p:spPr>
      </p:pic>
      <p:sp>
        <p:nvSpPr>
          <p:cNvPr id="59" name="ZoneTexte 1"/>
          <p:cNvSpPr/>
          <p:nvPr/>
        </p:nvSpPr>
        <p:spPr>
          <a:xfrm>
            <a:off x="352440" y="4653000"/>
            <a:ext cx="84391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marque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un accordeur électronique ou l’application GuitarTuna pour Android est utilisée par l’enseignant pour vérifier l’accordage à la fi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ût estimé: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4 euros par guitare (Conrad), 5 euros maximum par microphone,  15 euros pour un accordeur (pas indispens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 guitares sont aussi utilisées en SL et MPS ainsi qu’en CPG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8" descr=""/>
          <p:cNvPicPr/>
          <p:nvPr/>
        </p:nvPicPr>
        <p:blipFill>
          <a:blip r:embed="rId1"/>
          <a:stretch/>
        </p:blipFill>
        <p:spPr>
          <a:xfrm>
            <a:off x="638280" y="1500120"/>
            <a:ext cx="786744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 - Doc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600120" y="2162160"/>
            <a:ext cx="794376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 - Doc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957240" y="115920"/>
            <a:ext cx="7226280" cy="62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 - Doc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1271520" y="1252440"/>
            <a:ext cx="660096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 - Doc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1162080" y="1266840"/>
            <a:ext cx="681984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ROGRAMM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Connecteur droit 4"/>
          <p:cNvSpPr/>
          <p:nvPr/>
        </p:nvSpPr>
        <p:spPr>
          <a:xfrm>
            <a:off x="7093080" y="17002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lèche gauche 8"/>
          <p:cNvSpPr/>
          <p:nvPr/>
        </p:nvSpPr>
        <p:spPr>
          <a:xfrm>
            <a:off x="6516720" y="1844640"/>
            <a:ext cx="703080" cy="8568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e 9"/>
          <p:cNvGrpSpPr/>
          <p:nvPr/>
        </p:nvGrpSpPr>
        <p:grpSpPr>
          <a:xfrm>
            <a:off x="468360" y="1341360"/>
            <a:ext cx="8448480" cy="2238480"/>
            <a:chOff x="468360" y="1341360"/>
            <a:chExt cx="8448480" cy="2238480"/>
          </a:xfrm>
        </p:grpSpPr>
        <p:pic>
          <p:nvPicPr>
            <p:cNvPr id="74" name="Picture 2" descr=""/>
            <p:cNvPicPr/>
            <p:nvPr/>
          </p:nvPicPr>
          <p:blipFill>
            <a:blip r:embed="rId1"/>
            <a:stretch/>
          </p:blipFill>
          <p:spPr>
            <a:xfrm>
              <a:off x="468360" y="1341360"/>
              <a:ext cx="8448480" cy="22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Flèche gauche 10"/>
            <p:cNvSpPr/>
            <p:nvPr/>
          </p:nvSpPr>
          <p:spPr>
            <a:xfrm>
              <a:off x="6559560" y="1846080"/>
              <a:ext cx="704520" cy="85680"/>
            </a:xfrm>
            <a:prstGeom prst="leftArrow">
              <a:avLst>
                <a:gd name="adj1" fmla="val 50000"/>
                <a:gd name="adj2" fmla="val 50021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503280" y="4292640"/>
            <a:ext cx="8440560" cy="2425680"/>
          </a:xfrm>
          <a:prstGeom prst="rect">
            <a:avLst/>
          </a:prstGeom>
          <a:ln w="0">
            <a:noFill/>
          </a:ln>
        </p:spPr>
      </p:pic>
      <p:sp>
        <p:nvSpPr>
          <p:cNvPr id="77" name="ZoneTexte 12"/>
          <p:cNvSpPr/>
          <p:nvPr/>
        </p:nvSpPr>
        <p:spPr>
          <a:xfrm>
            <a:off x="476280" y="3781440"/>
            <a:ext cx="661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IEN  AVEC  LE  PROGRAMME  SPECIF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lèche gauche 16"/>
          <p:cNvSpPr/>
          <p:nvPr/>
        </p:nvSpPr>
        <p:spPr>
          <a:xfrm>
            <a:off x="7812000" y="6381720"/>
            <a:ext cx="704880" cy="85680"/>
          </a:xfrm>
          <a:prstGeom prst="leftArrow">
            <a:avLst>
              <a:gd name="adj1" fmla="val 50000"/>
              <a:gd name="adj2" fmla="val 5004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7T12:53:56Z</dcterms:created>
  <dc:creator>Lycée Guy Mollet</dc:creator>
  <dc:description/>
  <dc:language>en-US</dc:language>
  <cp:lastModifiedBy>tazoumbait.f</cp:lastModifiedBy>
  <dcterms:modified xsi:type="dcterms:W3CDTF">2018-03-30T12:42:07Z</dcterms:modified>
  <cp:revision>86</cp:revision>
  <dc:subject/>
  <dc:title>Diapositive 1</dc:title>
</cp:coreProperties>
</file>