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E48C-45CD-4706-8C28-A733FC3FE55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6751-AC98-43C0-A948-EB78F94D956F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1A2F-0B65-430E-98C5-841762FEA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FFFD-F219-4B6A-93B0-FD0C9F98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AE89-13AA-4FDA-B9F8-42D92C725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E236-6BBF-49EA-B26F-986CD7B27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25E4-CF56-411D-9ED2-961B5B07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0085-EB9A-4CC6-B836-E6C61A46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5431-9DE4-4B5D-940A-6995EEAC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38DE-A6EE-41E6-B9D2-B4BC238B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6ED5-A1BD-489A-9A4D-248C82AD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747C-91AB-4735-BF85-D2FB7699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837A-178B-43A2-9783-FB8B7F6B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62A3-EC01-4BB5-A244-7A3C7B29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C672-2C80-4DE0-8018-6D032AECB3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7"/>
          <p:cNvSpPr/>
          <p:nvPr/>
        </p:nvSpPr>
        <p:spPr>
          <a:xfrm>
            <a:off x="755640" y="1413000"/>
            <a:ext cx="7632720" cy="212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ER LES ELEVES DE SPECIA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EN TERMINALE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ANALYS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84360" y="549360"/>
          <a:ext cx="7296120" cy="4302000"/>
        </p:xfrm>
        <a:graphic>
          <a:graphicData uri="http://schemas.openxmlformats.org/drawingml/2006/table">
            <a:tbl>
              <a:tblPr/>
              <a:tblGrid>
                <a:gridCol w="1728720"/>
                <a:gridCol w="4890960"/>
                <a:gridCol w="169920"/>
                <a:gridCol w="168120"/>
                <a:gridCol w="169920"/>
                <a:gridCol w="168480"/>
              </a:tblGrid>
              <a:tr h="43812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 rowSpan="11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un protocole de dil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la démarche de mesure de l'absorbance des solutions étal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la démarche de mesure de la concentration de la solution inconn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propose la démarche de mesure de la concentration avant et après l'absorb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- détermination des quantités initiale et au bout de 10 minutes de BM dans le prélèvement choi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- détermination de la masse absorb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de la quantité de matière à la masse sur la concentration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aux 100 L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à la masse de charbon actif pouvant absorber cette ma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REALIS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68360" y="836640"/>
          <a:ext cx="7921440" cy="3978360"/>
        </p:xfrm>
        <a:graphic>
          <a:graphicData uri="http://schemas.openxmlformats.org/drawingml/2006/table">
            <a:tbl>
              <a:tblPr/>
              <a:tblGrid>
                <a:gridCol w="1512720"/>
                <a:gridCol w="5673960"/>
                <a:gridCol w="183960"/>
                <a:gridCol w="182520"/>
                <a:gridCol w="184320"/>
                <a:gridCol w="183960"/>
              </a:tblGrid>
              <a:tr h="43164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 rowSpan="10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alisation expérimen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utlise correctement la verrerie et du matér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mesure correctement les absorbances des solutions étalons (utilisation de l'outil informatique avec noti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manipule en toute sécurité et de façon ordo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Utilisation correcte de la ouate perlée comme système de filtration du charbon acti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réalise correctement la lecture de la concentration de la solution inconn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es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es 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VALIDER - COMMUNIQU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611280" y="1052640"/>
          <a:ext cx="7704000" cy="2525760"/>
        </p:xfrm>
        <a:graphic>
          <a:graphicData uri="http://schemas.openxmlformats.org/drawingml/2006/table">
            <a:tbl>
              <a:tblPr/>
              <a:tblGrid>
                <a:gridCol w="2016000"/>
                <a:gridCol w="4951440"/>
                <a:gridCol w="203040"/>
                <a:gridCol w="177840"/>
                <a:gridCol w="177840"/>
                <a:gridCol w="177840"/>
              </a:tblGrid>
              <a:tr h="61272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-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paraison avec la quantité de charbon actif dans le s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ard critique pertin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daction correcte de la démarche avec vocabulaire scientifique rigoureux et présence de liens logiq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900000" y="2413080"/>
            <a:ext cx="684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Question préliminair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poser une méthode spectrophotométrique pour mesurer la concentration molaire en bleu de méthylène de l’échantillon de l’eau de l’aquari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cela, proposer un protocole et le faire valider par l’enseignant avant la mise en œ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95280" y="404640"/>
          <a:ext cx="8209080" cy="5802480"/>
        </p:xfrm>
        <a:graphic>
          <a:graphicData uri="http://schemas.openxmlformats.org/drawingml/2006/table">
            <a:tbl>
              <a:tblPr/>
              <a:tblGrid>
                <a:gridCol w="1871640"/>
                <a:gridCol w="5551560"/>
                <a:gridCol w="217440"/>
                <a:gridCol w="189000"/>
                <a:gridCol w="189000"/>
                <a:gridCol w="190440"/>
              </a:tblGrid>
              <a:tr h="371520">
                <a:tc>
                  <a:txBody>
                    <a:bodyPr lIns="9036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stion préliminaire 1 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 rowSpan="5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faire des dilutions de la solution de concentration conn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mesurer les absorbances des solutions étal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relever l'absorbance maximale d'une solution de bleu de méthylèn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mesurer l'absorbance de la solution provenant de l'aquar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restitue la connaissance : proportionnalité entre absorbance et concent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un protocole de dil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'absorbance des solutions étal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a concentration de la solution inco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 rowSpan="7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expériment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utlise correctement la verrerie et du matéri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mesure correctement les absorbances des solutions étalons (utilisation de l'outil informatique avec noti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manipule en toute sécurité et de façon ordonn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réalise correctement la lecture de la concentration de la solution inco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calculs sont menés correctement et les résultats sont exprimés avec l’unité adapté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900000" y="2413080"/>
            <a:ext cx="68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Question préliminaire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poser une démarche permettant de déterminer la masse de bleu de méthylène absorbée par 1 g de charbon actif pour aquarium après 10 minutes de temps de conta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faire valider par l’enseignant avant la mise en œuv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39640" y="549360"/>
          <a:ext cx="8137800" cy="5311800"/>
        </p:xfrm>
        <a:graphic>
          <a:graphicData uri="http://schemas.openxmlformats.org/drawingml/2006/table">
            <a:tbl>
              <a:tblPr/>
              <a:tblGrid>
                <a:gridCol w="2087640"/>
                <a:gridCol w="5270400"/>
                <a:gridCol w="214560"/>
                <a:gridCol w="188640"/>
                <a:gridCol w="187560"/>
                <a:gridCol w="189000"/>
              </a:tblGrid>
              <a:tr h="60156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stion préliminaire 2 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se positionner sur un volume d'une solution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'utiliser la masse molaire du bleu de méthylè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restitue la connaissance : n = c x V  et n = m/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a concentration avant et après l'absorb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des quantités initiale et au bout de 10 minutes de BM dans le prélèvement choi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de la masse absorb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expérimentale: en plus des indicateurs de réussite de la question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sation correcte de la ouate perlée comme système de filtration du charbon acti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900000" y="2413080"/>
            <a:ext cx="71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ésolution du problè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Une quantité de charbon actif de 500 g est-elle suffisante pour éliminer le bleu de méthylène présent dans l’aquarium en moins de 10 minut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Apporter un regard critique à votre résul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39640" y="692280"/>
          <a:ext cx="8280360" cy="4680000"/>
        </p:xfrm>
        <a:graphic>
          <a:graphicData uri="http://schemas.openxmlformats.org/drawingml/2006/table">
            <a:tbl>
              <a:tblPr/>
              <a:tblGrid>
                <a:gridCol w="2016360"/>
                <a:gridCol w="5472000"/>
                <a:gridCol w="219240"/>
                <a:gridCol w="190440"/>
                <a:gridCol w="191880"/>
                <a:gridCol w="190440"/>
              </a:tblGrid>
              <a:tr h="55548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solution du problè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es grandeurs utiles : le volume du bassin, la quantité de charbon actif dans le sac, sa capacité d'absorbance, la concentration de l'eau de l'aquarium, le temps de cont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de la quantité de matière à la masse sur la concentration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aux 100 L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à la masse de charbon actif pouvant absorbé cette ma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-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paraison avec la quantité de charbon actif dans le s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ard critique pertin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daction correcte de la démarche avec vocabulaire scientifique rigoureux et présence de liens logiq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40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S’APPROPRI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755640" y="765000"/>
          <a:ext cx="7704000" cy="4559400"/>
        </p:xfrm>
        <a:graphic>
          <a:graphicData uri="http://schemas.openxmlformats.org/drawingml/2006/table">
            <a:tbl>
              <a:tblPr/>
              <a:tblGrid>
                <a:gridCol w="1368360"/>
                <a:gridCol w="5621400"/>
                <a:gridCol w="179280"/>
                <a:gridCol w="177840"/>
                <a:gridCol w="179640"/>
                <a:gridCol w="177480"/>
              </a:tblGrid>
              <a:tr h="48276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 rowSpan="9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faire des dilutions de la solution 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mesurer les absorbances des solutions étal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relever l'absorbance maximale d'une solution de bleu de méthylèn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mesurer l'absorbance de la solution provenant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restitue la connaissance : proportionnalité entre absorbance et concentr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a repéré la nécessité de se positionner sur un volume d'une solution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a repéré la nécessité d'utiliser la masse molaire du bleu de méthylè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restitue la connaissance : n = c x V  et n = m/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es grandeurs utiles : le volume du bassin, la quantité de charbon actif dans le sac, sa capacité d'absorbance, la concentration de l'eau de l'aquarium, le temps de cont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03T17:47:26Z</dcterms:created>
  <dc:creator>GERNER</dc:creator>
  <dc:description/>
  <dc:language>en-US</dc:language>
  <cp:lastModifiedBy>GERNER</cp:lastModifiedBy>
  <dcterms:modified xsi:type="dcterms:W3CDTF">2018-02-06T15:52:39Z</dcterms:modified>
  <cp:revision>6</cp:revision>
  <dc:subject/>
  <dc:title>Diapositive 1</dc:title>
</cp:coreProperties>
</file>